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CD8A-65D8-44C5-AC70-1885CBFA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984-4245-4377-ABE2-F25E1FA0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F9B-4182-4837-AEAF-952CCC68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461-BFF7-435D-AD21-E70D1D0A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8788-0A37-40CF-BFB4-60A07B40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449D-C3E9-466A-AF78-05CE458A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2815-1502-42FD-828F-F1AE096C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7C33-E4DF-4806-AD88-4A28E5C9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1179-85D7-47A3-A4E8-6BD3A9B2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F922-95C2-4F54-813E-895BCBD3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B7A4-25F1-480C-8B5C-1FE0275B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7A49-26E1-4103-8941-B61C2BDF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56A7-A00E-4391-980F-FB0C24DE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0320-F599-4D90-8E9A-61059E96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1C5C-9E94-4D07-9615-F28CE89B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9166-F67F-4490-8663-CCAB3921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478F-946E-4408-BFCF-341FFFA8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1ADC8-AEA9-4659-BBBF-991F451B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7DA4B-FC56-4073-8C8F-35833C82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88720-6C36-4837-AE91-F84C198A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F19D5-9A74-4446-AE7F-0C5D46FC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2E053-8CF2-430B-ADF8-910BEC03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2D0-8596-4D4D-9B8E-D689C586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CAA98-E429-446C-9E38-2E326D16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25D37-B9D6-462C-BB49-66DB0FBB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26FB3-849B-4453-B22F-078AB9EE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7BBB8-FB0E-4A42-B309-A8C16698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7A689-C44B-49BD-A932-8769AEBF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01B1E-60D5-4724-8C1B-0B16214E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0C0F9-8C7F-4D22-AC45-48F0FE53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E183F-3B16-4352-A1B3-8463C27A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9DE55-9D3A-4638-82EF-80803B04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4B7BA-A759-428B-9C59-5B69E903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63E-7CA1-4B8B-BCEE-50EB2B90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B1EC6-F5E1-4163-A97E-31E61374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C1B29-2F7F-4F58-B7B4-BAF73471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72208-0A3A-4DD9-B0E5-ADE01229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0D44D-4ADA-4B51-B8DB-4FBFB719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FB71F-69FF-4199-83A2-2C278713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21B84-EFA8-4ECD-AF6A-8B3D8963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EFC78-C0F1-4C6C-B36D-12DB3ED3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F768C-B786-4D74-9DDF-94699853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088ED-5E23-40BF-A586-1DE40DF5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9869A8-2EAB-4128-A92A-4D2A3D71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0168-EAB0-4108-91F6-ACA53776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4B066-FC3E-4F41-B6AE-F6FC08A5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3BEAE-D7D5-494B-BAC7-8023640D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E17FB-D063-48AF-BE4E-B4B71ACB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B158F-E7BD-453D-9343-738CC49E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21B03-855F-4E06-BF0F-C7CD4179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0F9BA0-E628-4523-94F0-BD5ADBFB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98A85-3100-4F23-8A83-AF9358F3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66139-A5E8-40B3-86C0-8930B5B4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0E597-B3C4-4D0B-9AE3-B0D40FE3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1E942-4280-4BB9-A6F7-0ED64839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F5E-FD56-473E-8412-2C57419B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A7633-A451-4185-9923-168FBD6F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53760-49CB-4ABF-A168-8D5D3B8A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12392-1605-4C0F-99F2-E67EE8EC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C53512-3C28-44E2-B5B2-AA35AF3E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B6F27-36CD-479B-89DA-B220716C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9DB4E-3E99-42D1-B507-EC35BB87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8CE018-1F9C-4D89-A138-FF9998D6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B64D2-7713-45A6-87F1-F68EAB41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ECBC1-B7DE-409C-9334-1B9A1581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73304-0237-4430-AD65-DA62A41A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401-98C1-462E-9700-8719C07B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66404-B388-4E7B-B2BC-2D62D5D8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98DC7-D74F-4DED-AA0F-5BF01548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15950-13F3-4447-A242-4C23B2B4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834781-8B1C-4AA7-AE1A-13035B59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B94A8D-18D2-448D-A076-21E891E6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DC51A-E645-4E73-BA70-6B89938C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C61AB8-64A7-4484-B25D-F122AC87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A71EE-755A-43DB-A212-A22DCE28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D8D82-4B56-419B-A4CC-0342F187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6A35F-0134-4E70-AE2C-A00294F4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7F5-4824-4569-8D85-56730257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5D5B6-5089-4B3F-AE1E-B8C70573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6FDED-2BC3-41A6-B901-DDF0CF5A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5AA53-0853-4C2E-A4E6-7E301502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DBB597-0741-4C95-8FB3-D0F91A91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245EC-9308-4FBF-9C08-31924D7F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78915-7D61-414E-B264-72B17F98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A3CFC-44BC-4A33-B33B-83D9630F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97DA7-3F53-4D47-A131-BAE63CD4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A12A8-6CF9-48C9-992A-AA9FD593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F0724-1456-46D6-A6CD-8A2E80F7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7A0-E1F9-441A-96C0-9EDA7167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444F6-8D2D-46A1-A6BD-EA6CBAEE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BC18D-BB02-406B-ADA7-81B9902E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DEAEF-DBED-4ED0-8F18-CB619FB6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509B7-6AF0-40E5-A23F-2447F4CC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33A61-8C07-4D66-AF82-19FF8059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8ED33-A6D0-4C31-B5DE-E1958EA9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4E61A-6AD3-44EE-B371-177C74C8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A6E3-BCC1-4FB2-9711-489365AEC9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D65C-05A1-42D1-8255-6A15C29CEB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3682-8309-4C45-AFB1-7065AF5ACE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C783-E683-45A5-9B2C-2504CFB48E9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B8E1-9910-44A7-9282-37DCE7BCAD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FD81-5860-477A-B200-98EC6684A1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E48B-B5AB-45CF-A176-921933C291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5656-5107-4401-B3A3-F5487F2A1A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75f6d"/>
                </a:solidFill>
                <a:latin typeface="Tahoma"/>
              </a:rPr>
              <a:t>REȚELE ȘI MIJLOACE DE  TRANSPORT TERESTR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457200" y="274680"/>
          <a:ext cx="8229600" cy="59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e ştiu acum despre căile de transport şi mijloacele de transport terestre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e ştiu despre evoluția tehnicilor de transport și factorii de poluare determinați de transporturi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 Unicode MS"/>
              </a:rPr>
              <a:t>Răspunde la aceaste întrebări folosin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lang="ro-RO" sz="2800" spc="-1" strike="noStrike">
                <a:solidFill>
                  <a:srgbClr val="000000"/>
                </a:solidFill>
                <a:latin typeface="Arial Unicode MS"/>
              </a:rPr>
              <a:t> tabelul de mai su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000000"/>
                </a:solidFill>
                <a:latin typeface="Comic Sans MS"/>
              </a:rPr>
              <a:t>Vreţi să aflaţi mai multe lucruri despre toate acestea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o</dc:creator>
  <dc:description/>
  <dc:language>en-US</dc:language>
  <cp:lastModifiedBy>Domo</cp:lastModifiedBy>
  <dcterms:modified xsi:type="dcterms:W3CDTF">2010-05-09T13:46:0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