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267-4D24-4709-8E3F-E269580B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A2E-19D3-4B67-93E4-7FCFA24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673-4523-4A63-B559-5C0B0E81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8DC-2AE3-422B-B6AD-7535EFFC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D1CF-5A62-4EAC-8670-81898106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A41-4A33-4AE4-AAE6-DFB1B0AF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887-2DEE-4E4A-A1AD-667B7174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2FBF-291D-4812-9FC0-AAA791F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31C1-994F-4150-A35C-E05F3EE0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8776-4E9C-4846-B387-77BBA21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98FC-BE8A-4FAE-AC57-B8FB35B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422-B464-4766-8989-F69947F8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2C26-D345-4910-B628-5AA0547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A0C2-3372-41C5-8894-4E0E884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86FF-F2C6-40B0-ADE6-38A22E7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0D44-B58A-4E22-B7A9-96858204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9B6-A876-4B96-AD87-DBEDC681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B3F7C-B656-4692-91F2-DBD36FB2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B669E-7495-4C1A-ACAE-ADCF2C9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04009-5392-42F8-AAF5-A2C75355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14405-1836-410E-A847-02194FE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E7D1A-4071-470D-855C-D09B144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2EB-7AE5-4926-A6E5-3DC1546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960DD-F196-49DF-A9B1-0872D66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23738-C4D8-4DE0-85CA-318CFC4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032E9-0741-4925-8846-58E9EF98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FAC4B-888A-4B98-A812-D4B3EF0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C4FC8-4A77-49E4-BA60-8200454A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B5B39-BCA0-4978-8533-2BC7AF1D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9C6D7-355E-4A18-9545-80A979BD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8199-8733-485B-9251-ADCF1C1A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61E3-08B1-4ACE-8206-E7E076D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1DFE-FBD0-44A9-955F-A4503AFA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7DD-A978-4276-952E-E1B6E82A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4B81-D664-4A8A-9621-D28DA0CB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FBA1-8424-460A-A368-35A9FC2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EB13B-056A-47D4-8EDF-97257F5B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1D4E-EC09-4CAC-8607-651A5D2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D304-1EDA-4514-A50E-E6C1CDF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F2CC-D6C7-4815-A44A-F4FBE097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1D0D-DAA1-4C52-BC20-B787578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3B9D-24BD-4F96-BFD8-7EC5557F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712B-D2EE-4467-ABA9-F22B4E74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1E830-6DE5-4F19-AE69-B7DEC203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6C7-189F-4102-B9AA-A328AE6E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8EDEB-3D5E-439C-BFA4-2350D50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B61F7-9918-454F-AAAC-8931A00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A83A9-7650-4951-894A-636C17E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FF8E4-D83C-4DC2-BF18-5D48952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06D9F-9F1B-4D08-813C-3CDDA2C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82B3D-86D8-470F-84E2-A5ECF4E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966EB-9589-456B-B9B8-0B025CEC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388C2-C038-4F21-AA68-FD070A1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4A736-4E9B-4E5F-8D48-2059A633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18505-1B79-495F-B578-CC0194D1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FE1-5138-400F-83C0-A51D2EF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1BD70-24D5-421A-9556-B7710AD1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3A04E-9FBC-4AEA-A594-64F056A9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B322A-3EE6-4B2B-AD1A-17156DE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15267-B171-4D87-9CAF-8C34E015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9B031-9BE5-4F30-AC2D-85AB0947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32CA6-58B0-4992-B6F7-85C888F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0E7F2-7173-4612-B47D-A78D9F2F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EAA65-E328-4DFF-A073-0812E70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C97DB-25EF-47F4-8229-10EF556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4AA4A-EAB2-4FBA-B6D2-BAAED02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5D1-D0AD-483F-9894-14102CE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2A864-3D80-4F7E-852A-1227CB46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2442B-9C54-484D-B977-01CA7628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2CA86-39B8-47B9-9843-038BF0F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012E1-31B5-42AF-AD6C-69C2CBC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909CB-7A78-4822-821E-FAA3863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186C2-A3AF-4CEE-9A23-79DD3002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6A924-E57F-437A-B3D5-81F0B34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8CD42-95DF-45C8-80CC-753CC24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0CC7F-DEC5-477E-9D0D-9B6EA7C8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677DA-8826-469A-A676-AAE62E0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FB1-1AF1-4047-8331-BD3E823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01694-B719-4636-9ABC-6F15A78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8DB2A-B8EC-46D8-85B0-642878A6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C1437-A9FA-42ED-BA78-5096131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71558-60EF-4441-B178-9D48526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342C0-D550-4753-86E1-DEDE381D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B0166-75F3-4E3E-809B-FEE45A76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41030-9DA6-44FE-B0A9-DD859F0F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35BD-CAB2-46E1-B4C4-A0FA7897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FA0A-988C-41F7-99BC-4DDD070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6E7B-762A-4E22-B9C3-808FF237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1EB-5A64-4710-AEF1-F6C44896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C515-0366-493D-A3CA-BAD8A06D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593D7-00AE-4EF0-8875-EDCF4D0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32BFC-014A-4F9B-8DC1-7737571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8CC0-5B26-47E1-8B9D-741C3D0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DF45-E6C2-4822-A9C9-1F56A1E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7F65B-45B9-46D9-A143-54E13223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2054-937F-47AC-943E-1C3223C4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419-72C4-4D73-A3BA-68C6092BFE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04E-B04F-496B-8167-6E1094BC30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A3D-BE62-429B-951A-C6F71F6553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59F9-9968-42B2-9E18-D06B11BDEB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1F0C-0196-4FBC-88FB-4F67F65E5B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151-1ED9-4087-9F84-0A3D5F9200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226-95D4-4B8A-94E5-C3DF078746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46C4-3941-48E1-BE9E-8E4ACCAA5D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Tahoma"/>
              </a:rPr>
              <a:t>REȚELE ȘI MIJLOACE DE  TRANSPORT TERESTR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9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acum despre căile de transport şi mijloacele de transport terestr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despre evoluția tehnicilor de transport și factorii de poluare determinați de transporturi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Răspunde la aceaste întrebări folos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tabelul de mai s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mic Sans MS"/>
              </a:rPr>
              <a:t>Vreţi să aflaţi mai multe lucruri despre toate aceste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09T13:46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