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323-A0DA-4366-85B7-00C4C42E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124-B00E-42CE-A919-267DA15E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D9B-AFCB-4C40-B4D2-B583B153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4A8-28F8-4F19-B897-B2383E58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227D-BB98-49ED-82EE-E902F0B6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FF19-FB33-4B80-8322-C5938A3A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269E-F1B3-4B12-9320-6F09BE68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651-8773-40DE-ACBA-BAE2CD48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7EB5-22AB-4B29-B0BC-EC257764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3CAF-7626-4EE6-8A9A-AEAC3BC1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7B83-A763-4A83-A19F-9C19125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1E4-6AF3-4280-993E-1F0EC2B6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CEFA-AA5C-47ED-8AD6-61FA8CD8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018-FA41-4423-A354-4D9B41CE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C6BB-2733-49D1-8CE8-02BF7655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6C34-A337-4AE9-B806-7D0D369B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3129-015D-4AD4-AD69-3DF23BEC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5FB89-1F7B-4509-A930-11DADF97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58F60-D027-4D72-AC00-8A168058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EE456-AB9E-4247-9C19-E5A6649B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5355B-E842-4DA5-92CD-E533275D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0A448-155C-488E-8DB8-2528FF6C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93A-2365-412D-AF8E-DA5885A2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5CF28-9741-47F5-8DAE-1C527920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C1287-99CF-421D-97E7-1638E023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23F6B-4FA0-482D-B49A-A8D30652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7BF91-5FF0-4762-8245-9D7434BE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17D23-BA7E-475F-976B-B448BF12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83E59-A60B-4FF5-AD50-C0683F8D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CB966-9ED4-465D-AF80-A7393D60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99E3-B241-4638-A85D-DE66713C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B9FB-AECD-4317-8E95-6D1678F3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49ED0-40A6-4571-B99F-B9A07AA9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DC5-8131-4F74-9B26-B92AE6E9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9D7F-7B80-45CE-9954-3246CFFC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3866-FCA3-43CE-84DA-B2E8D0C1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7EE1-9B89-40D4-A021-CC90619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4C3BF-FD4E-4320-A5F6-287BD270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BB040-D65B-448E-AC25-A975E41D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176B8-31C6-41B9-A75D-4BD8D7E1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59A7E-31F1-4279-B94E-7744EDF2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9070-6BF5-4305-B977-A9CA1FB6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F369-EA78-47CF-B699-9668AE62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AF0E80-2DB7-4697-99AE-FB2899B3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831-4812-42BD-A157-6FA432FC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73812-02EE-42A9-862F-69411558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3AC43-863B-4A35-B898-A2C51692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6857A-C0F7-4BB4-AE5F-2A61C94D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107C9-3392-4E24-B5F2-CC02F3E6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AEB49-33B7-4CEA-A243-004E0E06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B49A3-08F8-4398-959E-0D262AC5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C0FD5-B4AF-49D9-9201-1A70CBA2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99B50-B53B-4C6A-9CBB-0B7DED0D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549521-099C-4066-9DFA-E39DB899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DD001A-395B-41FE-B25A-B3D703E7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394-9259-4750-AFE9-FA5AF96D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5BDCB-EC9E-4CC2-9DEE-4CD9D623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5DD1D-D55A-47FC-B7C5-72F3BDED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3493D-7585-45EE-BEC7-CE72AE2D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C0865-ED5B-496D-B08C-F8482922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B25B7-741A-4277-AB75-A4199632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DC84D-9BB2-4D5C-BB49-9A323B5F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DCEBC-4460-4779-9B02-B62403F5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0255D-A890-49DA-AF73-EB66858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515CED-18E5-4B16-976E-865FB1E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43A0B-A9FA-4CCD-A8A2-9AE6FA2B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FF8-8F3D-42E1-AEE3-77B0E2E9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E2E7B-CDE8-4075-B3C1-A86EF6CD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C93DF-D3A7-4AB9-8BD2-048AB7F3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475E8-98F5-414E-AE35-16170A4A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B57D1-9B29-4AB6-9991-0F9D90AB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143558-FDB3-4E5B-9071-0D1C824D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3154F-8ECE-4E71-B06D-E0E90134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C18CC-605D-4B8F-9418-DCC537B7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D7FADD-30DC-40DD-8FD4-80013895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426FB-E47F-42FD-B71C-9C4A0914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FF4D8-4E97-4648-90BC-F86C74BB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1FC-64F9-4C4F-BED5-7E0AE9BF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5EBD0F-862E-4B67-BFFA-72E89F2F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773A2-5433-4AC4-8874-ED9687A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CD6A8-1A2E-43D2-85EF-2DE5849C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C2564-0CCD-43CF-9E11-E30DC95D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1CB95-BF07-454C-8480-F6CD8777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8B3FC-8812-4465-B17B-9DE352E3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01548-11FA-4877-A890-E66E615A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38AF7-BC5B-48A0-B267-EF68CE5F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DCC19-3AD0-41E7-B692-D51166F8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BF293-D748-49CC-BEBD-DCEF133C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3AE-77CE-4FC3-AA8F-249C069E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20BED-4C33-4FE7-BB44-802494BA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86108-8F08-45E1-AFCE-989BC74D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C7AB9-1A9A-4430-9681-F449A821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A23DC-4EC9-4F42-8201-F5AD5446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5AF8E-6CA6-45FF-A439-946D8717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07D84-C694-438F-91E6-43434DC8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4962-161D-4B84-A27D-7DABBABB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7CA-CDED-4AFF-AB83-C1EE8FCA10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A063-DC91-44B7-AD92-8CD486627F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D429-1532-4664-8A48-5BA68EE009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2F65-4464-4B27-93AC-C0BD4E07BA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C04E-03E8-4E62-B3DE-3070DEFE11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0999-5DBA-4A24-AE35-8E7EFFC52D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D1C4-0F9C-4DD4-B7EE-1C56D15ACD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AA9A-E247-418E-9902-30B7E57053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75f6d"/>
                </a:solidFill>
                <a:latin typeface="Tahoma"/>
              </a:rPr>
              <a:t>REȚELE ȘI MIJLOACE DE  TRANSPORT TERESTR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"/>
          <p:cNvGraphicFramePr/>
          <p:nvPr/>
        </p:nvGraphicFramePr>
        <p:xfrm>
          <a:off x="457200" y="274680"/>
          <a:ext cx="8229600" cy="59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au să şt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învăţ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e ştiu acum despre căile de transport şi mijloacele de transport terestre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Ce ştiu despre evoluția tehnicilor de transport și factorii de poluare determinați de transporturi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Răspunde la aceaste întrebări folosin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1" lang="ro-RO" sz="2800" spc="-1" strike="noStrike">
                <a:solidFill>
                  <a:srgbClr val="000000"/>
                </a:solidFill>
                <a:latin typeface="Arial Unicode MS"/>
              </a:rPr>
              <a:t> tabelul de mai su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000000"/>
                </a:solidFill>
                <a:latin typeface="Comic Sans MS"/>
              </a:rPr>
              <a:t>Vreţi să aflaţi mai multe lucruri despre toate acestea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09T13:46:0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