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E52-3009-4785-B7A7-82E37A43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18C-DFB5-4B16-9907-CFF1DC6A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960-0929-4CD3-9CEB-35476419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9D6-F65B-4D68-887C-B68DDD0C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3407-1077-4885-B937-B3131EE6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CB3A-7A2B-4AC9-B0D4-363B1A32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8504-7A03-4EA4-A23A-FD86BECA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A945-4C1D-4724-951A-2FD46FD4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17A5-9DD1-45A9-9350-2432BB57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4AF8-AEF2-4A64-A279-07BDD27A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DE2E-FB5E-4FF0-9646-58CECA48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5EE-BAF8-48D8-9D75-A5F45AD0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0BCD-0D1D-4E3C-B591-A1031811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BA83-27CA-4A1E-9AF3-239CE389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A926-3E32-4629-B4AA-0CCDF6B3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BB21-6302-4836-9107-7C62F04D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530A-7FE1-4AD0-9970-509214E2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51561-F635-4DBE-9AA7-37F17880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1C257-7D50-45BC-B923-CE7C7D00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B95F2-DCC4-4375-883B-2C4AD516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FB8AA-0B37-4CDE-A99A-62FA341F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9410F-4CF8-48E9-A9C5-C340F1D4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1D6-0A3E-48D5-AFBF-46BF9828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3555E-200C-445D-84D1-CAC7337A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696F5-1465-42C8-A067-4B8108D6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1F784-CA0A-412C-A306-0E160A45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B6BF8-1C8F-4FAC-896C-D1A48F74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01515-0AFF-4A63-B12F-DBD631C4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86723-DA81-4C46-8E51-A49518E0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87A58-855E-4912-977E-5BAC31F3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A2251-602B-4B72-AD39-2A4D1FCD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C4B76-AF6A-453C-9E52-41CA02C7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54D77-CF3C-46AA-B676-D82A4A02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84E-ADFC-4BCA-9347-93171C42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791EF-E0CE-44EF-98A5-841177A5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32C4-4DA7-4CA3-9B27-40810D36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43754-1EC2-4116-B7CE-94D90905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F3E5B-4DF3-496A-ADEB-2056C6BD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0C5CF-6716-4FBB-8B36-A21CAC81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539CB-0222-48E1-8EA3-143F7173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0D365-7848-4F10-962D-893A776D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1D973-C8C9-48F0-A6CC-F0C3178E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550B3-4673-4F9B-B3FF-2E1254C6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2CF1E-D0C0-4244-9F52-4D6959C0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45B-5789-4AD4-BFBD-192B2760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B3941-4F30-43CA-8D1E-1C324DD9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22EDA-6AE4-4C31-9D5C-07A518D9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7C7A77-9CF4-4C54-A329-3854038D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350DA-5834-4832-9273-7291F110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4E19B-8F34-42C3-9937-2DE25E88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DB252-FC63-4B92-BCF0-5685BF6D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AE1F2-D640-4336-8B40-950D88C4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D49A3-48BA-4300-8CA5-F3225487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D3B05-C095-4EEF-8E3B-D0C18899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82952-153F-40B7-817D-B3D62B7D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28D-6CD1-436F-A4B3-62FBAF91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CD776-296E-4864-B5EF-4711F84F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B3CB6-334B-4B9F-BAFA-A4B627C8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62A6F-AA7E-486C-89EA-934CA437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623ED-C4CA-4CDA-80D8-1AB5AAB6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1303D8-5800-4822-8672-0EC1D309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E16C6D-D09C-4611-902E-86E5E0EF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34BBB-DA88-4F17-8FD1-A85D226E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3735E-9E14-4523-B461-CEFE459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9B56D-0A95-48E9-8374-6EB65315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A18F5-B4B5-4AD2-85CE-8D673500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751-92CA-45AE-8E9A-EFDDA080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2F6E8-4F91-421A-A3AE-EC96C63D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31185-EB96-4C1B-87A7-98A9CB5A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D4C4F4-7B86-4D98-B445-EFB0A21A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4ECA3-C26C-4421-8326-5107E5DE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1298A-04FB-4066-9E8F-B814E12E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C22CC-C890-4076-BAA8-D9AA3714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127BF-7789-4816-A66B-12803C41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F49460-3794-456C-B507-C4B37806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BE9D2-9ED5-49A8-8D75-C9FBAACA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DE59C-FAB7-4485-9D12-906CBC38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606-570F-4B20-A600-FE79C9FF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697D1-D87F-42D3-A9F3-AD1CD9A4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4C49B-2903-48E3-948F-E2961367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53487-9DA6-4422-9E82-2446AEE6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3BD31-FE9F-4F15-ADDD-C09C9F05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725108-A88F-4287-8CD9-A97E92A8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3C6D4-56F1-4FEE-B13B-5A2185F1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F1E16-EFEA-4BE0-A0FA-A25C07F2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D821F-99ED-45B5-9512-6718AAA4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B4453-9008-4796-BCD9-3F7F6810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0DBA5-74A2-43A9-B0E8-26F85992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EA9-81CD-483D-9CE9-38F64188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0683A-17A6-4BB6-95AF-E67F8A1A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41DBF-508E-4AAA-A58E-AB7C6B6E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A09B7-DDD5-423E-9030-28DD9938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F24BC-7907-4034-9091-ADA30593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04121-5F2E-4223-ABBA-7A8E461B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AB3AD-2E05-47EF-8BCE-3AD92F97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344D8-1396-466E-82D3-40D75C97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59C2-388C-4F09-9A36-1E574D0E6D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BEC8-54DE-4168-8E0D-8BCB382D94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016E-E73D-486C-9DEA-0C16B3226D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F440-05A9-4920-ACA3-66A2ADE3C0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CAB1-61AD-480D-BA2F-8CBA39A9A1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44C7-4EFD-47B7-82FB-78DEF8470A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161A-6384-4FB0-9E82-487C8A60F7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31BD-D689-4639-85A1-B0C72C7B77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75f6d"/>
                </a:solidFill>
                <a:latin typeface="Tahoma"/>
              </a:rPr>
              <a:t>REȚELE ȘI MIJLOACE DE  TRANSPORT TERESTR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457200" y="274680"/>
          <a:ext cx="8229600" cy="59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e ştiu acum despre căile de transport şi mijloacele de transport terestre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e ştiu despre evoluția tehnicilor de transport și factorii de poluare determinați de transporturi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Răspunde la aceaste întrebări folosin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 tabelul de mai su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000000"/>
                </a:solidFill>
                <a:latin typeface="Comic Sans MS"/>
              </a:rPr>
              <a:t>Vreţi să aflaţi mai multe lucruri despre toate acestea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o</dc:creator>
  <dc:description/>
  <dc:language>en-US</dc:language>
  <cp:lastModifiedBy>Domo</cp:lastModifiedBy>
  <dcterms:modified xsi:type="dcterms:W3CDTF">2010-05-09T13:46:0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