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FE9-FE2A-400C-8CD0-F080107E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844-A54E-420F-B671-F80AB21F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280-EDB2-4122-A51A-9B42CB7E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E99-20CB-4A47-9EB8-9796DD18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570F-B9E8-41A2-AECE-D4399266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74C4-C9A5-4B22-B3E0-A2ADFF07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4B8C-783D-4517-B5AA-796D3E5F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D311-9C8C-4CC1-AC31-F281536A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0ED-3008-4874-BBF3-6A4F6207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2B0B-844E-49E6-B276-F4F80336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9422-F663-44BD-84AD-A94D4BA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941-8E97-43CE-A9E9-2D98F5CC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760B-09C5-48F7-98A1-430F68F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42F7-A802-46A9-B3B1-04916787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37AD-CA93-4D69-833E-3F414E8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7369-C574-42FB-9932-5DDCA05C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BEEC-C6A2-42F9-896F-9FD12CC1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862-A6BE-47E0-BCA9-8AC157F3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5D7-6101-437F-9F6C-F2347FAE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351-E7FD-42EA-96E0-7D8A4566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06E-2507-4611-9865-84FA9EB2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443-3988-419C-9E62-AE93A47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D7A-3518-49F1-A471-F9F1256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2AD-8C50-4DBB-929F-75E1FD44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934D-6FD0-4BCD-A502-AE38628B0F27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1F13-9868-4DF7-BF19-77A1ADBD5A04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o.wikipedia.org/wiki/1894" TargetMode="External"/><Relationship Id="rId3" Type="http://schemas.openxmlformats.org/officeDocument/2006/relationships/hyperlink" Target="http://ro.wikipedia.org/w/index.php?title=Muzeul_EFA_pentru_istorie_automobilistic&#259;&amp;action=edit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&#350;in&#259;" TargetMode="External"/><Relationship Id="rId2" Type="http://schemas.openxmlformats.org/officeDocument/2006/relationships/hyperlink" Target="http://ro.wikipedia.org/wiki/Richard_Trevithick" TargetMode="External"/><Relationship Id="rId3" Type="http://schemas.openxmlformats.org/officeDocument/2006/relationships/hyperlink" Target="http://ro.wikipedia.org/wiki/Cornwall" TargetMode="External"/><Relationship Id="rId4" Type="http://schemas.openxmlformats.org/officeDocument/2006/relationships/hyperlink" Target="http://ro.wikipedia.org/wiki/1804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/index.php?title=Karl_Drais&amp;action=edi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wikipedia.org/wiki/Vehicu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o.wikipedia.org/wiki/Europa" TargetMode="External"/><Relationship Id="rId3" Type="http://schemas.openxmlformats.org/officeDocument/2006/relationships/hyperlink" Target="http://ro.wikipedia.org/wiki/Secolul_XIX" TargetMode="External"/><Relationship Id="rId4" Type="http://schemas.openxmlformats.org/officeDocument/2006/relationships/hyperlink" Target="http://ro.wikipedia.org/wiki/Transport" TargetMode="External"/><Relationship Id="rId5" Type="http://schemas.openxmlformats.org/officeDocument/2006/relationships/hyperlink" Target="http://ro.wikipedia.org/w/index.php?title=Recrea&#355;ie&amp;action=edit" TargetMode="External"/><Relationship Id="rId6" Type="http://schemas.openxmlformats.org/officeDocument/2006/relationships/hyperlink" Target="http://ro.wikipedia.org/wiki/Sport" TargetMode="External"/><Relationship Id="rId7" Type="http://schemas.openxmlformats.org/officeDocument/2006/relationships/hyperlink" Target="http://ro.wikipedia.org/w/index.php?title=Ciclism&amp;action=edit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o.wikipedia.org/wiki/Pomp&#259;_cu_piston" TargetMode="External"/><Relationship Id="rId2" Type="http://schemas.openxmlformats.org/officeDocument/2006/relationships/hyperlink" Target="http://ro.wikipedia.org/w/index.php?title=Denis_Papin&amp;action=edit" TargetMode="External"/><Relationship Id="rId3" Type="http://schemas.openxmlformats.org/officeDocument/2006/relationships/hyperlink" Target="http://ro.wikipedia.org/wiki/1679" TargetMode="External"/><Relationship Id="rId4" Type="http://schemas.openxmlformats.org/officeDocument/2006/relationships/hyperlink" Target="http://ro.wikipedia.org/wiki/1714" TargetMode="External"/><Relationship Id="rId5" Type="http://schemas.openxmlformats.org/officeDocument/2006/relationships/hyperlink" Target="http://ro.wikipedia.org/wiki/1712" TargetMode="External"/><Relationship Id="rId6" Type="http://schemas.openxmlformats.org/officeDocument/2006/relationships/hyperlink" Target="http://ro.wikipedia.org/wiki/Thomas_Newcomen" TargetMode="External"/><Relationship Id="rId7" Type="http://schemas.openxmlformats.org/officeDocument/2006/relationships/hyperlink" Target="http://ro.wikipedia.org/wiki/Cornwall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o.wikipedia.org/wiki/James_Watt" TargetMode="External"/><Relationship Id="rId2" Type="http://schemas.openxmlformats.org/officeDocument/2006/relationships/hyperlink" Target="http://ro.wikipedia.org/wiki/1776" TargetMode="External"/><Relationship Id="rId3" Type="http://schemas.openxmlformats.org/officeDocument/2006/relationships/hyperlink" Target="http://ro.wikipedia.org/wiki/James_Watt" TargetMode="External"/><Relationship Id="rId4" Type="http://schemas.openxmlformats.org/officeDocument/2006/relationships/hyperlink" Target="http://ro.wikipedia.org/w/index.php?title=Nicolas_Cugnot&amp;action=edit" TargetMode="External"/><Relationship Id="rId5" Type="http://schemas.openxmlformats.org/officeDocument/2006/relationships/hyperlink" Target="http://ro.wikipedia.org/wiki/1769" TargetMode="External"/><Relationship Id="rId6" Type="http://schemas.openxmlformats.org/officeDocument/2006/relationships/hyperlink" Target="http://ro.wikipedia.org/wiki/Vehicul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EVOLUŢIA       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MIJLOACELOR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    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D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28195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L FRIEDRICH BENZ</a:t>
            </a:r>
            <a:br>
              <a:rPr sz="28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25 noiembrie 1844 – </a:t>
            </a:r>
            <a:br>
              <a:rPr sz="20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4 aprilie 1929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3047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 fost un inginer german şi un pionier al automobilismul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996920" cy="28954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5" name="Text Box 8"/>
          <p:cNvSpPr/>
          <p:nvPr/>
        </p:nvSpPr>
        <p:spPr>
          <a:xfrm>
            <a:off x="5318280" y="54288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038480" y="3962520"/>
            <a:ext cx="4876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"Velo", căruţa cu motor patentată a lui Benz din anul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894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Primul autoturism în serie se află 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Muzeul EFA pentru istorie automobilistică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1045 cm³,  20 km/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343400" y="365760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8" descr="Imagine6"/>
          <p:cNvPicPr/>
          <p:nvPr/>
        </p:nvPicPr>
        <p:blipFill>
          <a:blip r:embed="rId4"/>
          <a:stretch/>
        </p:blipFill>
        <p:spPr>
          <a:xfrm>
            <a:off x="4038480" y="304920"/>
            <a:ext cx="4724640" cy="348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BMW X5-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siunea cu motor de 355 cai putere ajunge de la 0 la 100 km/or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ă în 6,5 sec. iar viteza maximă este de 240 km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or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8" descr="Imagine1"/>
          <p:cNvPicPr/>
          <p:nvPr/>
        </p:nvPicPr>
        <p:blipFill>
          <a:blip r:embed="rId1"/>
          <a:stretch/>
        </p:blipFill>
        <p:spPr>
          <a:xfrm>
            <a:off x="1066680" y="2133720"/>
            <a:ext cx="7848720" cy="4267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p:transition spd="med" advTm="10000">
    <p:pull dir="l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 locomotivă c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ri care se deplasa p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ş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construită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Richard Trevithi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Locomotiva lui cu patru roţi a făcut o cursă demonstrativă pe 22 februari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tingând viteza de 20 km/h făr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încărcătură şi 8 km/h cu încărcătură. Din păcate, greutatea trenului a rupt şine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Richard Trevithick"/>
          <p:cNvPicPr/>
          <p:nvPr/>
        </p:nvPicPr>
        <p:blipFill>
          <a:blip r:embed="rId5"/>
          <a:stretch/>
        </p:blipFill>
        <p:spPr>
          <a:xfrm rot="1461000">
            <a:off x="6171840" y="2895120"/>
            <a:ext cx="2286000" cy="2845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 flipH="1">
            <a:off x="6705000" y="304920"/>
            <a:ext cx="2057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52280" y="152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LOCOMOTIVA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CU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ABUR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447920" y="10666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Istoria locomotive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În 1829, în timpul construirii unei noi căi ferate în nordul Angliei, între Liverpool şi Manchester, s-a organizat un concurs pentru a se găsi cea mai rapidă locomotivă care să circule pe aceste şine.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remiul de 500 lire a fost câstigat uşor de locomotiva Rocket, prezentată de George Stephenson. Ea a atins viteza, pe atunci extraordinară, de 46,7 km/h, un record mondial la acea vre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648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comotiva lui Stephen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4" descr="Locomotiva lui Stephenson"/>
          <p:cNvPicPr/>
          <p:nvPr/>
        </p:nvPicPr>
        <p:blipFill>
          <a:blip r:embed="rId1"/>
          <a:stretch/>
        </p:blipFill>
        <p:spPr>
          <a:xfrm>
            <a:off x="228600" y="1981080"/>
            <a:ext cx="4724280" cy="4191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49" name="Text Box 6"/>
          <p:cNvSpPr/>
          <p:nvPr/>
        </p:nvSpPr>
        <p:spPr>
          <a:xfrm>
            <a:off x="5486400" y="47242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Replica locomotivei lui Stephen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Replica locomotivei lui Stephenson"/>
          <p:cNvPicPr/>
          <p:nvPr/>
        </p:nvPicPr>
        <p:blipFill>
          <a:blip r:embed="rId2"/>
          <a:stretch/>
        </p:blipFill>
        <p:spPr>
          <a:xfrm>
            <a:off x="5410080" y="304920"/>
            <a:ext cx="3505320" cy="419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med" advTm="10000"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ea mai rapidă locomotivă cu abur construită vreodată a fost Mallard şi pe 3 iul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938 stabileşte recordul de 201,2 km/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Imagine9"/>
          <p:cNvPicPr/>
          <p:nvPr/>
        </p:nvPicPr>
        <p:blipFill>
          <a:blip r:embed="rId1"/>
          <a:stretch/>
        </p:blipFill>
        <p:spPr>
          <a:xfrm>
            <a:off x="2362320" y="1600200"/>
            <a:ext cx="5410080" cy="4944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GV sau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en de mare viteză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(franceză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ain à grande vitesse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) este un tren automotor electric care poate circula cu viteză mare (270 sau 300 km/h), dezvoltat de Societatea Naţională a Căilor Ferate Franceze (SNCF)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5" descr="Imagine10"/>
          <p:cNvPicPr/>
          <p:nvPr/>
        </p:nvPicPr>
        <p:blipFill>
          <a:blip r:embed="rId1"/>
          <a:stretch/>
        </p:blipFill>
        <p:spPr>
          <a:xfrm>
            <a:off x="1219320" y="2057400"/>
            <a:ext cx="7315200" cy="449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RENUL CU LEVITAŢIE MAGNETICĂ ZBOARĂ PE DEASUPRA ŞINELOR FOLOSIND FORŢELE ELECTROMAGNETIC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maglev"/>
          <p:cNvPicPr/>
          <p:nvPr/>
        </p:nvPicPr>
        <p:blipFill>
          <a:blip r:embed="rId1"/>
          <a:stretch/>
        </p:blipFill>
        <p:spPr>
          <a:xfrm>
            <a:off x="990720" y="190512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MIJLOAC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   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D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ERESTR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904760"/>
            <a:ext cx="3276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Istoric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trămoşul bicicletei a fost creat de către baronul germa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Karl Drai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care a inventat şi şi-a patentat maşinăria în anul 181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O bicicletă de epocă, cunoscută sub denumirea de velociped"/>
          <p:cNvPicPr/>
          <p:nvPr/>
        </p:nvPicPr>
        <p:blipFill>
          <a:blip r:embed="rId2"/>
          <a:stretch/>
        </p:blipFill>
        <p:spPr>
          <a:xfrm>
            <a:off x="4952880" y="1447920"/>
            <a:ext cx="3867120" cy="3943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800600" y="54100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 bicicletă de epocă, cunoscută sub denumirea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veloci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0020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BICICLET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ciclet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ate fi definită în general ca fiind u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tier cu două roţi aşezate în linie una în spatele celeilalte, pus în mişcare prin intermediul a două pedale acţionate cu picioare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Această bicicletă de munte (&quot;mountain-bike&quot;) are cauciucuri supradimensionate, cadru rezistent, amortizoare pentru roata din faţă şi mânerele ghidonului orientate perpendicular pe axa bicicletei"/>
          <p:cNvPicPr/>
          <p:nvPr/>
        </p:nvPicPr>
        <p:blipFill>
          <a:blip r:embed="rId2"/>
          <a:stretch/>
        </p:blipFill>
        <p:spPr>
          <a:xfrm rot="921600">
            <a:off x="3733560" y="259056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699160" y="69516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14400" y="26668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orma şi configuraţia de bază a cadrului, roţilor, pedalelor, şezutului şi a ghidonului a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uferit doar mici schimbări d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885, când a fost construit primul model cu lan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9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Fiind inventate în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Euro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secolului 19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, bicicletele sunt acum în număr de peste un miliard, asigurând în multe regiuni mijlocul principal de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transport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e sunt de asemenea foarte populare ca mod de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recreaţi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 şi au fost adaptate pentru folosinţă în multe alte domenii ale activităţii umane cum ar fi cel al jucăriilor, fitness, aplicaţii militare, servicii de curierat şi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sportul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numit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iclism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Imagine3"/>
          <p:cNvPicPr/>
          <p:nvPr/>
        </p:nvPicPr>
        <p:blipFill>
          <a:blip r:embed="rId8"/>
          <a:stretch/>
        </p:blipFill>
        <p:spPr>
          <a:xfrm>
            <a:off x="4876920" y="2590920"/>
            <a:ext cx="3962160" cy="2884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9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6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toria motorului cu ab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ul om care a avut idee de a transform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pompa cu pis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maşină termică, a fost francez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Denis Pap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în an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167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Din păcate nu a putut să o pună în practică din lipsă de fonduri. El a murit în sărăcie,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71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rimul motor performant a fost construit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Thomas Newcom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Acesta avea un braţ mare care pompa apa în 16 mişcări de du-te-vino pe minut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7200" y="1522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MOTORUL CU ABUR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magine4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8840" y="60958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torul lui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James Wat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4533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776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James Wat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un constructor scoţian de mecanisme, a adus îmbunătăţiri motorului lui Newcomen.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Nicolas Cug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primul care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6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losit motorul cu abur la un vehicul. Ace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utea transporta 4 persoane, dar a fost folosit la transportul armamentului greu. Viteza maximă care a fost atinsă cu acest vehicul a fost de 5 km/h.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Motorul lui James Watt"/>
          <p:cNvPicPr/>
          <p:nvPr/>
        </p:nvPicPr>
        <p:blipFill>
          <a:blip r:embed="rId7"/>
          <a:stretch/>
        </p:blipFill>
        <p:spPr>
          <a:xfrm>
            <a:off x="5029200" y="457200"/>
            <a:ext cx="35352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zvoltarea motorului cu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trebuit 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pte p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 descoperierea unui combustibil de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-a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ercat folosirea prafului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nu a mers. Carburatoarele cu praf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sunt greu de g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it. Primul sistem folosit a fost cel pe gaz. S-a folosit gaz de huil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ob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nut prin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zirea huilei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tr-un vas sau cazan sub presiune. Un francez pe nume Etienne Lenoir a brevetat primul motor pe baz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de gaz la Paris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 anul 18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70160" y="380880"/>
            <a:ext cx="5349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TORUL CU ARDERE INTERN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7:56:19Z</dcterms:created>
  <dc:creator>GRI Suplac 5</dc:creator>
  <dc:description/>
  <dc:language>en-US</dc:language>
  <cp:lastModifiedBy>Domo</cp:lastModifiedBy>
  <dcterms:modified xsi:type="dcterms:W3CDTF">2010-05-23T18:30:29Z</dcterms:modified>
  <cp:revision>45</cp:revision>
  <dc:subject/>
  <dc:title>EVOLUTIA MIJLOACELOR  DE TRANSPORT</dc:title>
</cp:coreProperties>
</file>