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B9B4-C121-45B1-B116-B2141FE85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E5F2-2F0F-45D8-A6B0-31126B76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9C91-AEF4-4C80-B04B-C866349B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BAB3-93E6-4E0F-B20C-28A4B9E1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5CA9-1D5B-444F-BB9B-BFFCD7861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9964-1E6D-44AE-B810-56E4339F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AF7C-496D-49B0-B37F-58EE6CE3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CE9E-949E-4EAD-B77E-FC05688E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D1FB-A1FD-4482-A2FF-7F376F5D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0B72-E2B1-4968-A740-5E30797F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F25E-A365-4037-AC41-36A254E7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8EDE-DE73-4287-A57C-FCA534E4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3DF8-6A2F-4954-906E-B5B07AEA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3E07-DCA4-4BEE-9054-68A1669B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1C96-FAF7-4CE0-A1B5-BCD73B55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4E13-B2B9-41C1-8663-51213E66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B513-ECAB-4F08-A39A-CA0CBE990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3326-D6A9-4EE2-8538-339CB140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4AA2-7AE5-4EAE-B5B3-A243E332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BAC8-793B-412C-A9E8-2B26663A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DBEB-B7AC-4702-8B50-ECFF9B9F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B97B-B2B4-4D2C-AFE6-4655AD69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7947-5D53-492E-9521-E3E35FBD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6A66-6536-4BB2-B98C-41772F97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7041-DC00-414F-A796-A2373D02A918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8634-173E-4754-8D84-029116D73172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ro.wikipedia.org/wiki/1894" TargetMode="External"/><Relationship Id="rId3" Type="http://schemas.openxmlformats.org/officeDocument/2006/relationships/hyperlink" Target="http://ro.wikipedia.org/w/index.php?title=Muzeul_EFA_pentru_istorie_automobilistic&#259;&amp;action=edit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o.wikipedia.org/wiki/&#350;in&#259;" TargetMode="External"/><Relationship Id="rId2" Type="http://schemas.openxmlformats.org/officeDocument/2006/relationships/hyperlink" Target="http://ro.wikipedia.org/wiki/Richard_Trevithick" TargetMode="External"/><Relationship Id="rId3" Type="http://schemas.openxmlformats.org/officeDocument/2006/relationships/hyperlink" Target="http://ro.wikipedia.org/wiki/Cornwall" TargetMode="External"/><Relationship Id="rId4" Type="http://schemas.openxmlformats.org/officeDocument/2006/relationships/hyperlink" Target="http://ro.wikipedia.org/wiki/1804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o.wikipedia.org/w/index.php?title=Karl_Drais&amp;action=edi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o.wikipedia.org/wiki/Vehicu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o.wikipedia.org/wiki/Europa" TargetMode="External"/><Relationship Id="rId3" Type="http://schemas.openxmlformats.org/officeDocument/2006/relationships/hyperlink" Target="http://ro.wikipedia.org/wiki/Secolul_XIX" TargetMode="External"/><Relationship Id="rId4" Type="http://schemas.openxmlformats.org/officeDocument/2006/relationships/hyperlink" Target="http://ro.wikipedia.org/wiki/Transport" TargetMode="External"/><Relationship Id="rId5" Type="http://schemas.openxmlformats.org/officeDocument/2006/relationships/hyperlink" Target="http://ro.wikipedia.org/w/index.php?title=Recrea&#355;ie&amp;action=edit" TargetMode="External"/><Relationship Id="rId6" Type="http://schemas.openxmlformats.org/officeDocument/2006/relationships/hyperlink" Target="http://ro.wikipedia.org/wiki/Sport" TargetMode="External"/><Relationship Id="rId7" Type="http://schemas.openxmlformats.org/officeDocument/2006/relationships/hyperlink" Target="http://ro.wikipedia.org/w/index.php?title=Ciclism&amp;action=edit" TargetMode="Externa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o.wikipedia.org/wiki/Pomp&#259;_cu_piston" TargetMode="External"/><Relationship Id="rId2" Type="http://schemas.openxmlformats.org/officeDocument/2006/relationships/hyperlink" Target="http://ro.wikipedia.org/w/index.php?title=Denis_Papin&amp;action=edit" TargetMode="External"/><Relationship Id="rId3" Type="http://schemas.openxmlformats.org/officeDocument/2006/relationships/hyperlink" Target="http://ro.wikipedia.org/wiki/1679" TargetMode="External"/><Relationship Id="rId4" Type="http://schemas.openxmlformats.org/officeDocument/2006/relationships/hyperlink" Target="http://ro.wikipedia.org/wiki/1714" TargetMode="External"/><Relationship Id="rId5" Type="http://schemas.openxmlformats.org/officeDocument/2006/relationships/hyperlink" Target="http://ro.wikipedia.org/wiki/1712" TargetMode="External"/><Relationship Id="rId6" Type="http://schemas.openxmlformats.org/officeDocument/2006/relationships/hyperlink" Target="http://ro.wikipedia.org/wiki/Thomas_Newcomen" TargetMode="External"/><Relationship Id="rId7" Type="http://schemas.openxmlformats.org/officeDocument/2006/relationships/hyperlink" Target="http://ro.wikipedia.org/wiki/Cornwall" TargetMode="Externa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o.wikipedia.org/wiki/James_Watt" TargetMode="External"/><Relationship Id="rId2" Type="http://schemas.openxmlformats.org/officeDocument/2006/relationships/hyperlink" Target="http://ro.wikipedia.org/wiki/1776" TargetMode="External"/><Relationship Id="rId3" Type="http://schemas.openxmlformats.org/officeDocument/2006/relationships/hyperlink" Target="http://ro.wikipedia.org/wiki/James_Watt" TargetMode="External"/><Relationship Id="rId4" Type="http://schemas.openxmlformats.org/officeDocument/2006/relationships/hyperlink" Target="http://ro.wikipedia.org/w/index.php?title=Nicolas_Cugnot&amp;action=edit" TargetMode="External"/><Relationship Id="rId5" Type="http://schemas.openxmlformats.org/officeDocument/2006/relationships/hyperlink" Target="http://ro.wikipedia.org/wiki/1769" TargetMode="External"/><Relationship Id="rId6" Type="http://schemas.openxmlformats.org/officeDocument/2006/relationships/hyperlink" Target="http://ro.wikipedia.org/wiki/Vehicul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62120" y="609480"/>
            <a:ext cx="76960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66ff66"/>
                </a:solidFill>
                <a:latin typeface="Tahoma"/>
              </a:rPr>
              <a:t>    </a:t>
            </a:r>
            <a:r>
              <a:rPr b="1" lang="en-US" sz="7200" spc="-1" strike="noStrike">
                <a:solidFill>
                  <a:srgbClr val="66ff66"/>
                </a:solidFill>
                <a:latin typeface="Tahoma"/>
              </a:rPr>
              <a:t> </a:t>
            </a:r>
            <a:r>
              <a:rPr b="1" lang="ro-RO" sz="7200" spc="-1" strike="noStrike">
                <a:solidFill>
                  <a:srgbClr val="66ff66"/>
                </a:solidFill>
                <a:latin typeface="Tahoma"/>
              </a:rPr>
              <a:t>EVOLUŢIA           </a:t>
            </a:r>
            <a:r>
              <a:rPr b="1" lang="en-US" sz="7200" spc="-1" strike="noStrike">
                <a:solidFill>
                  <a:srgbClr val="66ff66"/>
                </a:solidFill>
                <a:latin typeface="Tahoma"/>
              </a:rPr>
              <a:t> 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ff66"/>
                </a:solidFill>
                <a:latin typeface="Tahoma"/>
              </a:rPr>
              <a:t> </a:t>
            </a:r>
            <a:r>
              <a:rPr b="1" lang="ro-RO" sz="7200" spc="-1" strike="noStrike">
                <a:solidFill>
                  <a:srgbClr val="66ff66"/>
                </a:solidFill>
                <a:latin typeface="Tahoma"/>
              </a:rPr>
              <a:t>MIJLOACELOR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66ff66"/>
                </a:solidFill>
                <a:latin typeface="Tahoma"/>
              </a:rPr>
              <a:t>          </a:t>
            </a:r>
            <a:r>
              <a:rPr b="1" lang="ro-RO" sz="7200" spc="-1" strike="noStrike">
                <a:solidFill>
                  <a:srgbClr val="66ff66"/>
                </a:solidFill>
                <a:latin typeface="Tahoma"/>
              </a:rPr>
              <a:t>DE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66ff66"/>
                </a:solidFill>
                <a:latin typeface="Tahoma"/>
              </a:rPr>
              <a:t>  </a:t>
            </a:r>
            <a:r>
              <a:rPr b="1" lang="ro-RO" sz="7200" spc="-1" strike="noStrike">
                <a:solidFill>
                  <a:srgbClr val="66ff66"/>
                </a:solidFill>
                <a:latin typeface="Tahoma"/>
              </a:rPr>
              <a:t>TRANSPORT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Tahoma"/>
              </a:rPr>
              <a:t>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281952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ARL FRIEDRICH BENZ</a:t>
            </a:r>
            <a:br>
              <a:rPr sz="2800"/>
            </a:br>
            <a:r>
              <a:rPr b="1" lang="ro-RO" sz="2000" spc="-1" strike="noStrike">
                <a:solidFill>
                  <a:srgbClr val="eaeaea"/>
                </a:solidFill>
                <a:latin typeface="Tahoma"/>
              </a:rPr>
              <a:t>25 noiembrie 1844 – </a:t>
            </a:r>
            <a:br>
              <a:rPr sz="2000"/>
            </a:br>
            <a:r>
              <a:rPr b="1" lang="ro-RO" sz="2000" spc="-1" strike="noStrike">
                <a:solidFill>
                  <a:srgbClr val="eaeaea"/>
                </a:solidFill>
                <a:latin typeface="Tahoma"/>
              </a:rPr>
              <a:t>4 aprilie 1929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5257440"/>
            <a:ext cx="30477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A fost un inginer german şi un pionier al automobilismulu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1996920" cy="289548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135" name="Text Box 8"/>
          <p:cNvSpPr/>
          <p:nvPr/>
        </p:nvSpPr>
        <p:spPr>
          <a:xfrm>
            <a:off x="5318280" y="542880"/>
            <a:ext cx="3139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4038480" y="3962520"/>
            <a:ext cx="487692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Tahoma"/>
              </a:rPr>
              <a:t>"Velo", căruţa cu motor patentată a lui Benz din anul </a:t>
            </a:r>
            <a:r>
              <a:rPr b="0" lang="fr-FR" sz="2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1894</a:t>
            </a:r>
            <a:r>
              <a:rPr b="0" lang="fr-FR" sz="2800" spc="-1" strike="noStrike">
                <a:solidFill>
                  <a:srgbClr val="eaeaea"/>
                </a:solidFill>
                <a:latin typeface="Tahoma"/>
              </a:rPr>
              <a:t>. Primul autoturism în serie se află în </a:t>
            </a:r>
            <a:r>
              <a:rPr b="0" lang="fr-FR" sz="28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Muzeul EFA pentru istorie automobilistică</a:t>
            </a:r>
            <a:r>
              <a:rPr b="0" lang="fr-FR" sz="2800" spc="-1" strike="noStrike">
                <a:solidFill>
                  <a:srgbClr val="eaeaea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1045 cm³,  20 km/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4343400" y="3657600"/>
            <a:ext cx="28195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18" descr="Imagine6"/>
          <p:cNvPicPr/>
          <p:nvPr/>
        </p:nvPicPr>
        <p:blipFill>
          <a:blip r:embed="rId4"/>
          <a:stretch/>
        </p:blipFill>
        <p:spPr>
          <a:xfrm>
            <a:off x="4038480" y="304920"/>
            <a:ext cx="4724640" cy="3483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 spd="med" advTm="10000">
    <p:pull dir="lu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BMW X5-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versiunea cu motor de 355 cai putere ajunge de la 0 la 100 km/or</a:t>
            </a:r>
            <a:r>
              <a:rPr b="1" lang="ro-RO" sz="2400" spc="-1" strike="noStrike">
                <a:solidFill>
                  <a:srgbClr val="eaeaea"/>
                </a:solidFill>
                <a:latin typeface="Tahoma"/>
              </a:rPr>
              <a:t>ă în 6,5 sec. iar viteza maximă este de 240 km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/</a:t>
            </a:r>
            <a:r>
              <a:rPr b="1" lang="ro-RO" sz="2400" spc="-1" strike="noStrike">
                <a:solidFill>
                  <a:srgbClr val="eaeaea"/>
                </a:solidFill>
                <a:latin typeface="Tahoma"/>
              </a:rPr>
              <a:t> oră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0" name="Picture 8" descr="Imagine1"/>
          <p:cNvPicPr/>
          <p:nvPr/>
        </p:nvPicPr>
        <p:blipFill>
          <a:blip r:embed="rId1"/>
          <a:stretch/>
        </p:blipFill>
        <p:spPr>
          <a:xfrm>
            <a:off x="1066680" y="2133720"/>
            <a:ext cx="7848720" cy="426708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</p:spTree>
  </p:cSld>
  <p:transition spd="med" advTm="10000">
    <p:pull dir="lu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a locomotivă cu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uri care se deplasa p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ş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fost construită de inginerul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Richard Trevithic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din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Cornwal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Locomotiva lui cu patru roţi a făcut o cursă demonstrativă pe 22 februari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180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atingând viteza de 20 km/h făr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încărcătură şi 8 km/h cu încărcătură. Din păcate, greutatea trenului a rupt şinel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Richard Trevithick"/>
          <p:cNvPicPr/>
          <p:nvPr/>
        </p:nvPicPr>
        <p:blipFill>
          <a:blip r:embed="rId5"/>
          <a:stretch/>
        </p:blipFill>
        <p:spPr>
          <a:xfrm rot="1461000">
            <a:off x="6171840" y="2895120"/>
            <a:ext cx="2286000" cy="28450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9"/>
          <p:cNvSpPr/>
          <p:nvPr/>
        </p:nvSpPr>
        <p:spPr>
          <a:xfrm flipH="1">
            <a:off x="6705000" y="304920"/>
            <a:ext cx="20574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152280" y="152280"/>
            <a:ext cx="899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ff"/>
                </a:solidFill>
                <a:latin typeface="Tahoma"/>
              </a:rPr>
              <a:t>LOCOMOTIVA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o-RO" sz="4800" spc="-1" strike="noStrike">
                <a:solidFill>
                  <a:srgbClr val="ffffff"/>
                </a:solidFill>
                <a:latin typeface="Tahoma"/>
              </a:rPr>
              <a:t>CU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4800" spc="-1" strike="noStrike">
                <a:solidFill>
                  <a:srgbClr val="ffffff"/>
                </a:solidFill>
                <a:latin typeface="Tahoma"/>
              </a:rPr>
              <a:t>ABURI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1447920" y="106668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Istoria locomotivelo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9000"/>
                            </p:stCondLst>
                            <p:childTnLst>
                              <p:par>
                                <p:cTn id="2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320" y="152280"/>
            <a:ext cx="7543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În 1829, în timpul construirii unei noi căi ferate în nordul Angliei, între Liverpool şi Manchester, s-a organizat un concurs pentru a se găsi cea mai rapidă locomotivă care să circule pe aceste şine. 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Premiul de 500 lire a fost câstigat uşor de locomotiva Rocket, prezentată de George Stephenson. Ea a atins viteza, pe atunci extraordinară, de 46,7 km/h, un record mondial la acea vre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46483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ocomotiva lui Stephens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8" name="Picture 4" descr="Locomotiva lui Stephenson"/>
          <p:cNvPicPr/>
          <p:nvPr/>
        </p:nvPicPr>
        <p:blipFill>
          <a:blip r:embed="rId1"/>
          <a:stretch/>
        </p:blipFill>
        <p:spPr>
          <a:xfrm>
            <a:off x="228600" y="1981080"/>
            <a:ext cx="4724280" cy="41911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149" name="Text Box 6"/>
          <p:cNvSpPr/>
          <p:nvPr/>
        </p:nvSpPr>
        <p:spPr>
          <a:xfrm>
            <a:off x="5486400" y="472428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Replica locomotivei lui Stephen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Replica locomotivei lui Stephenson"/>
          <p:cNvPicPr/>
          <p:nvPr/>
        </p:nvPicPr>
        <p:blipFill>
          <a:blip r:embed="rId2"/>
          <a:stretch/>
        </p:blipFill>
        <p:spPr>
          <a:xfrm>
            <a:off x="5410080" y="304920"/>
            <a:ext cx="3505320" cy="41907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med" advTm="10000">
    <p:pull dir="lu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60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Cea mai rapidă locomotivă cu abur construită vreodată a fost Mallard şi pe 3 iuli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1938 stabileşte recordul de 201,2 km/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8" descr="Imagine9"/>
          <p:cNvPicPr/>
          <p:nvPr/>
        </p:nvPicPr>
        <p:blipFill>
          <a:blip r:embed="rId1"/>
          <a:stretch/>
        </p:blipFill>
        <p:spPr>
          <a:xfrm>
            <a:off x="2362320" y="1600200"/>
            <a:ext cx="5410080" cy="49449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 spd="med" advTm="10000">
    <p:pull dir="lu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eaeaea"/>
                </a:solidFill>
                <a:latin typeface="Tahoma"/>
              </a:rPr>
              <a:t>TGV sau </a:t>
            </a:r>
            <a:r>
              <a:rPr b="1" i="1" lang="ro-RO" sz="2400" spc="-1" strike="noStrike">
                <a:solidFill>
                  <a:srgbClr val="eaeaea"/>
                </a:solidFill>
                <a:latin typeface="Tahoma"/>
              </a:rPr>
              <a:t>tren de mare viteză</a:t>
            </a:r>
            <a:r>
              <a:rPr b="1" lang="ro-RO" sz="2400" spc="-1" strike="noStrike">
                <a:solidFill>
                  <a:srgbClr val="eaeaea"/>
                </a:solidFill>
                <a:latin typeface="Tahoma"/>
              </a:rPr>
              <a:t> (franceză </a:t>
            </a:r>
            <a:r>
              <a:rPr b="1" i="1" lang="ro-RO" sz="2400" spc="-1" strike="noStrike">
                <a:solidFill>
                  <a:srgbClr val="eaeaea"/>
                </a:solidFill>
                <a:latin typeface="Tahoma"/>
              </a:rPr>
              <a:t>train à grande vitesse</a:t>
            </a:r>
            <a:r>
              <a:rPr b="1" lang="ro-RO" sz="2400" spc="-1" strike="noStrike">
                <a:solidFill>
                  <a:srgbClr val="eaeaea"/>
                </a:solidFill>
                <a:latin typeface="Tahoma"/>
              </a:rPr>
              <a:t>) este un tren automotor electric care poate circula cu viteză mare (270 sau 300 km/h), dezvoltat de Societatea Naţională a Căilor Ferate Franceze (SNCF)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4" name="Picture 5" descr="Imagine10"/>
          <p:cNvPicPr/>
          <p:nvPr/>
        </p:nvPicPr>
        <p:blipFill>
          <a:blip r:embed="rId1"/>
          <a:stretch/>
        </p:blipFill>
        <p:spPr>
          <a:xfrm>
            <a:off x="1219320" y="2057400"/>
            <a:ext cx="7315200" cy="44956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 spd="med" advTm="10000">
    <p:pull dir="lu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eaeaea"/>
                </a:solidFill>
                <a:latin typeface="Tahoma"/>
              </a:rPr>
              <a:t>TRENUL CU LEVITAŢIE MAGNETICĂ ZBOARĂ PE DEASUPRA ŞINELOR FOLOSIND FORŢELE ELECTROMAGNETICE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7" descr="maglev"/>
          <p:cNvPicPr/>
          <p:nvPr/>
        </p:nvPicPr>
        <p:blipFill>
          <a:blip r:embed="rId1"/>
          <a:stretch/>
        </p:blipFill>
        <p:spPr>
          <a:xfrm>
            <a:off x="990720" y="1905120"/>
            <a:ext cx="7543800" cy="4343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u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320" y="304920"/>
            <a:ext cx="7543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66"/>
                </a:solidFill>
                <a:latin typeface="Tahoma"/>
              </a:rPr>
              <a:t>   </a:t>
            </a:r>
            <a:r>
              <a:rPr b="1" lang="ro-RO" sz="8000" spc="-1" strike="noStrike">
                <a:solidFill>
                  <a:srgbClr val="66ff66"/>
                </a:solidFill>
                <a:latin typeface="Tahoma"/>
              </a:rPr>
              <a:t>MIJLOACE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66"/>
                </a:solidFill>
                <a:latin typeface="Tahoma"/>
              </a:rPr>
              <a:t>         </a:t>
            </a:r>
            <a:r>
              <a:rPr b="1" lang="ro-RO" sz="8000" spc="-1" strike="noStrike">
                <a:solidFill>
                  <a:srgbClr val="66ff66"/>
                </a:solidFill>
                <a:latin typeface="Tahoma"/>
              </a:rPr>
              <a:t>DE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66ff66"/>
                </a:solidFill>
                <a:latin typeface="Tahoma"/>
              </a:rPr>
              <a:t> </a:t>
            </a:r>
            <a:r>
              <a:rPr b="1" lang="ro-RO" sz="8000" spc="-1" strike="noStrike">
                <a:solidFill>
                  <a:srgbClr val="66ff66"/>
                </a:solidFill>
                <a:latin typeface="Tahoma"/>
              </a:rPr>
              <a:t>TRANSPORT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66ff66"/>
                </a:solidFill>
                <a:latin typeface="Tahoma"/>
              </a:rPr>
              <a:t>   </a:t>
            </a:r>
            <a:r>
              <a:rPr b="1" lang="ro-RO" sz="8000" spc="-1" strike="noStrike">
                <a:solidFill>
                  <a:srgbClr val="66ff66"/>
                </a:solidFill>
                <a:latin typeface="Tahoma"/>
              </a:rPr>
              <a:t>TERESTRE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1904760"/>
            <a:ext cx="32767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Tahoma"/>
              </a:rPr>
              <a:t>Istoric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66652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Strămoşul bicicletei a fost creat de către baronul german </a:t>
            </a:r>
            <a:r>
              <a:rPr b="0" lang="fr-FR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Karl Drais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, care a inventat şi şi-a patentat maşinăria în anul 1817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O bicicletă de epocă, cunoscută sub denumirea de velociped"/>
          <p:cNvPicPr/>
          <p:nvPr/>
        </p:nvPicPr>
        <p:blipFill>
          <a:blip r:embed="rId2"/>
          <a:stretch/>
        </p:blipFill>
        <p:spPr>
          <a:xfrm>
            <a:off x="4952880" y="1447920"/>
            <a:ext cx="3867120" cy="39430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4800600" y="5410080"/>
            <a:ext cx="4114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O bicicletă de epocă, cunoscută sub denumirea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de </a:t>
            </a: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velocip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600200" y="15228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ahoma"/>
              </a:rPr>
              <a:t>BICICLETA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684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iciclet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oate fi definită în general ca fiind un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vehicu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utier cu două roţi aşezate în linie una în spatele celeilalte, pus în mişcare prin intermediul a două pedale acţionate cu picioare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Această bicicletă de munte (&quot;mountain-bike&quot;) are cauciucuri supradimensionate, cadru rezistent, amortizoare pentru roata din faţă şi mânerele ghidonului orientate perpendicular pe axa bicicletei"/>
          <p:cNvPicPr/>
          <p:nvPr/>
        </p:nvPicPr>
        <p:blipFill>
          <a:blip r:embed="rId2"/>
          <a:stretch/>
        </p:blipFill>
        <p:spPr>
          <a:xfrm rot="921600">
            <a:off x="3733560" y="2590560"/>
            <a:ext cx="4800600" cy="33526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5699160" y="695160"/>
            <a:ext cx="3139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914400" y="2666880"/>
            <a:ext cx="320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Forma şi configuraţia de bază a cadrului, roţilor, pedalelor, şezutului şi a ghidonului a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suferit doar mici schimbări di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1885, când a fost construit primul model cu lan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ţ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9200"/>
                            </p:stCondLst>
                            <p:childTnLst>
                              <p:par>
                                <p:cTn id="1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eaeaea"/>
                </a:solidFill>
                <a:latin typeface="Tahoma"/>
              </a:rPr>
              <a:t>Fiind inventate în </a:t>
            </a:r>
            <a:r>
              <a:rPr b="1" lang="fr-FR" sz="24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Europa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fr-FR" sz="24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secolului 19</a:t>
            </a:r>
            <a:r>
              <a:rPr b="1" lang="fr-FR" sz="2400" spc="-1" strike="noStrike">
                <a:solidFill>
                  <a:srgbClr val="eaeaea"/>
                </a:solidFill>
                <a:latin typeface="Tahoma"/>
              </a:rPr>
              <a:t>, bicicletele sunt acum în număr de peste un miliard, asigurând în multe regiuni mijlocul principal de </a:t>
            </a:r>
            <a:r>
              <a:rPr b="1" lang="fr-FR" sz="24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transport</a:t>
            </a:r>
            <a:r>
              <a:rPr b="1" lang="fr-FR" sz="2400" spc="-1" strike="noStrike">
                <a:solidFill>
                  <a:srgbClr val="eaeaea"/>
                </a:solidFill>
                <a:latin typeface="Tahoma"/>
              </a:rPr>
              <a:t>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Ele sunt de asemenea foarte populare ca mod de </a:t>
            </a:r>
            <a:r>
              <a:rPr b="0" lang="fr-FR" sz="24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recreaţie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, şi au fost adaptate pentru folosinţă în multe alte domenii ale activităţii umane cum ar fi cel al jucăriilor, fitness, aplicaţii militare, servicii de curierat şi </a:t>
            </a:r>
            <a:r>
              <a:rPr b="0" lang="fr-FR" sz="2400" spc="-1" strike="noStrike" u="sng">
                <a:solidFill>
                  <a:srgbClr val="ffffcc"/>
                </a:solidFill>
                <a:uFillTx/>
                <a:latin typeface="Tahoma"/>
                <a:hlinkClick r:id="rId6"/>
              </a:rPr>
              <a:t>sportul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numit </a:t>
            </a:r>
            <a:r>
              <a:rPr b="0" lang="fr-FR" sz="2400" spc="-1" strike="noStrike" u="sng">
                <a:solidFill>
                  <a:srgbClr val="ffffcc"/>
                </a:solidFill>
                <a:uFillTx/>
                <a:latin typeface="Tahoma"/>
                <a:hlinkClick r:id="rId7"/>
              </a:rPr>
              <a:t>ciclism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6" descr="Imagine3"/>
          <p:cNvPicPr/>
          <p:nvPr/>
        </p:nvPicPr>
        <p:blipFill>
          <a:blip r:embed="rId8"/>
          <a:stretch/>
        </p:blipFill>
        <p:spPr>
          <a:xfrm>
            <a:off x="4876920" y="2590920"/>
            <a:ext cx="3962160" cy="28843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 spd="med" advTm="10000">
    <p:pull dir="l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900"/>
                            </p:stCondLst>
                            <p:childTnLst>
                              <p:par>
                                <p:cTn id="1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76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storia motorului cu ab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ul om care a avut idee de a transforma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pompa cu pist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maşină termică, a fost francezul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Denis Pap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în anul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1679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Din păcate nu a putut să o pună în practică din lipsă de fonduri. El a murit în sărăcie, în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171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Primul motor performant a fost construit în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171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inginerul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6"/>
              </a:rPr>
              <a:t>Thomas Newcome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din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7"/>
              </a:rPr>
              <a:t>Cornwal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Acesta avea un braţ mare care pompa apa în 16 mişcări de du-te-vino pe minut.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457200" y="152280"/>
            <a:ext cx="868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MOTORUL CU ABURI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Imagine4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62481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8840" y="6095880"/>
            <a:ext cx="3886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Motorul lui </a:t>
            </a:r>
            <a:r>
              <a:rPr b="1" lang="en-US" sz="2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James Watt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52280"/>
            <a:ext cx="45338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În </a:t>
            </a:r>
            <a:r>
              <a:rPr b="0" lang="fr-FR" sz="2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1776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fr-FR" sz="28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James Watt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, un constructor scoţian de mecanisme, a adus îmbunătăţiri motorului lui Newcomen.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Nicolas Cugno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fost primul care în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1769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folosit motorul cu abur la un vehicul. Acest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6"/>
              </a:rPr>
              <a:t>vehicu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utea transporta 4 persoane, dar a fost folosit la transportul armamentului greu. Viteza maximă care a fost atinsă cu acest vehicul a fost de 5 km/h.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3" descr="Motorul lui James Watt"/>
          <p:cNvPicPr/>
          <p:nvPr/>
        </p:nvPicPr>
        <p:blipFill>
          <a:blip r:embed="rId7"/>
          <a:stretch/>
        </p:blipFill>
        <p:spPr>
          <a:xfrm>
            <a:off x="5029200" y="457200"/>
            <a:ext cx="35352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14400" y="18288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zvoltarea motorului cu ardere intern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trebuit s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pte p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â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la descoperierea unui combustibil de ardere intern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S-a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î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ncercat folosirea prafului de pu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ş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î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ns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nu a mers. Carburatoarele cu praf de pu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ş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î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nc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sunt greu de g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sit. Primul sistem folosit a fost cel pe gaz. S-a folosit gaz de huil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ob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ţ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inut prin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î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nc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lzirea huilei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î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ntr-un vas sau cazan sub presiune. Un francez pe nume Etienne Lenoir a brevetat primul motor pe baz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de gaz la Paris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î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n anul 186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270160" y="380880"/>
            <a:ext cx="53499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28600" y="22860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MOTORUL CU ARDERE INTERN</a:t>
            </a:r>
            <a:r>
              <a:rPr b="1" lang="ro-RO" sz="4800" spc="-1" strike="noStrike">
                <a:solidFill>
                  <a:srgbClr val="ffffff"/>
                </a:solidFill>
                <a:latin typeface="Tahoma"/>
              </a:rPr>
              <a:t>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07:56:19Z</dcterms:created>
  <dc:creator>GRI Suplac 5</dc:creator>
  <dc:description/>
  <dc:language>en-US</dc:language>
  <cp:lastModifiedBy>Domo</cp:lastModifiedBy>
  <dcterms:modified xsi:type="dcterms:W3CDTF">2010-05-23T18:30:29Z</dcterms:modified>
  <cp:revision>45</cp:revision>
  <dc:subject/>
  <dc:title>EVOLUTIA MIJLOACELOR  DE TRANSPORT</dc:title>
</cp:coreProperties>
</file>