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622E-A028-4874-9AEC-63E97BD4A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8375-2FB3-4D21-96F0-7353DE10D7A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6F2-032F-47BD-9F2D-CED4C506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093F-47CC-4E93-B0B3-F7BA0C29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2E98-8092-436E-97F1-DADFB90E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AA6-01C0-4979-B8EF-666CAFB8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0C04-BFDF-4C94-A2AA-E772CD08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B01E-1C58-43D3-BA5B-3FD15808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2ADD-619C-46C8-AC09-EBAA9AFA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998D-0DD4-4103-9817-A3787786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D558-2FE1-4C96-8A11-5EC6362E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D45B-7C4C-4BA6-9D40-7CB85F44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C8C9-A6DC-42DE-852A-6EC2C837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CC9F-59B5-4E58-A7FC-85B91E46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866A-ACD6-4C79-B955-F706728C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1F12-77BA-4690-88E8-EB3756BC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B1D6-F1EB-40DE-9146-C8016726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1FAE-0113-4D34-8377-96554CEE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7A01-38FA-4715-A6E6-474DD7E0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5542-12BD-4FEA-86F6-6D49902A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FBF1-F378-433D-86E5-5A520F41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DEBE-9526-4E63-A17B-08212307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E7D-D373-427A-883E-4C6725D1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043F-0596-4D45-B98D-6F70AAA2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EEEF-D657-4FA7-B7E9-FF98E388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1FC6-E0E4-49D8-950A-6D4C6893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1DAA-8611-4A15-BF6E-D7FD765F774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D857-EC3A-44BF-8311-78DE5BC9775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3366"/>
                </a:solidFill>
                <a:latin typeface="Arial"/>
              </a:rPr>
              <a:t>REȚELE  ȘI  MIJLOACE DE     TRANSPORT  TEREST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IECT </a:t>
            </a: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 DE PREDA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PRIN PROIECTE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DUCA</a:t>
            </a: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E TEHNOLOGIC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788000" y="5661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66"/>
                </a:solidFill>
                <a:latin typeface="Arial"/>
              </a:rPr>
              <a:t>Profesor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1" lang="ro-RO" sz="1800" spc="-1" strike="noStrike">
                <a:solidFill>
                  <a:srgbClr val="003366"/>
                </a:solidFill>
                <a:latin typeface="Arial"/>
              </a:rPr>
              <a:t>Nemes Ildik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3 –Reactualizarea noţiunilor legate de prisma optic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57160" y="2928600"/>
            <a:ext cx="394992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cumentare individual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28760" y="3285720"/>
            <a:ext cx="35989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şa de activita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țele și mijloace de transport ruti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surse de facilit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surse 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Platforma A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950760" y="4168800"/>
            <a:ext cx="33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57160" y="4286160"/>
            <a:ext cx="4032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xperiment integrat în lecţi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3 –Reactualizarea noţiunilor legate de prisma optic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394992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valuare formativ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32000" y="2361960"/>
            <a:ext cx="359892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şa de evaluar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Prisma optic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Observarea elevi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iagrama K-W-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flecţii în jur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950760" y="4168800"/>
            <a:ext cx="33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826920" y="4869000"/>
            <a:ext cx="40323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laborare proiec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859280" y="5084640"/>
            <a:ext cx="388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Întâlnire de gr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4  Dispersia luminii în natură şi tehnică. Interpretare elctromagnetic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394992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escoperire dirijat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7480" y="2714400"/>
            <a:ext cx="359892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Fişa de activita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Dispersia lumini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Resurse de facilita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Resurse inter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Platforma A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26920" y="5229360"/>
            <a:ext cx="4032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xperiment integrat în lecţi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4 Rețele și mijloace de transport ferovia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394992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valuare formativ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00" y="2361960"/>
            <a:ext cx="359892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şa de evaluar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țele și mijloace de transport ruti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Observarea elevi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iagrama K-W-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flecţii în jur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50760" y="4168800"/>
            <a:ext cx="33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826920" y="4869000"/>
            <a:ext cx="40323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laborare proiec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4859280" y="5084640"/>
            <a:ext cx="388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Întâlnire de gr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Lecția 5: Poluarea și soluțiile de protejare a mediulu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Evaluare formativ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Elaborare proi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şa de evaluar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Poluarea și mijloace de diminuare a poluări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Observarea elevi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iagrama K-W-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flecţii în jur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Întâlnire de gr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 u="sng">
                <a:solidFill>
                  <a:srgbClr val="006666"/>
                </a:solidFill>
                <a:uFillTx/>
                <a:latin typeface="Arial"/>
              </a:rPr>
              <a:t>Lecţia 6</a:t>
            </a:r>
            <a:r>
              <a:rPr b="1" lang="it-IT" sz="3600" spc="-1" strike="noStrike" u="sng">
                <a:solidFill>
                  <a:srgbClr val="006666"/>
                </a:solidFill>
                <a:uFillTx/>
                <a:latin typeface="Arial"/>
              </a:rPr>
              <a:t>:</a:t>
            </a:r>
            <a:r>
              <a:rPr b="1" lang="ro-RO" sz="3600" spc="-1" strike="noStrike" u="sng">
                <a:solidFill>
                  <a:srgbClr val="006666"/>
                </a:solidFill>
                <a:uFillTx/>
                <a:latin typeface="Arial"/>
              </a:rPr>
              <a:t>Elaborarea prezentăr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Activitate pe grupe pentru definitivarea prezentări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Prezentarea portofoliilor cu toate documentele completa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 completea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ză Fişa de autoevaluare a activităţii în echip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ile 7 şi 8:Susţinerea proiectel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Fiecare echipă are la dispoziţie 10-15 min pentru prezentarea proiectulu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ecare echipa va evalua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şi proiectul unei alte echip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fesorul va colabora cu elevii la nota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ed-bac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vii sunt ruga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ţi să prezinte reflecţii asupra Metodei proiectulu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letarea unui Formular de Feed-ba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3366"/>
                </a:solidFill>
                <a:latin typeface="Arial"/>
              </a:rPr>
              <a:t>SĂ PARCURGEM ÎMPREUNĂ ACEŞTI PAŞI PENTRU A AF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928800" y="3500280"/>
            <a:ext cx="7643880" cy="15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um au ajutat transporturile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entru progresul societății?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32000" y="98064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trebarea esen</a:t>
            </a:r>
            <a:r>
              <a:rPr b="0" lang="ro-RO" sz="3200" spc="-1" strike="noStrike">
                <a:solidFill>
                  <a:srgbClr val="003366"/>
                </a:solidFill>
                <a:latin typeface="Arial"/>
              </a:rPr>
              <a:t>ţială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1214280" y="4500720"/>
            <a:ext cx="7143840" cy="151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um au ajutat transporturil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entru progresul societății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66"/>
                </a:solidFill>
                <a:latin typeface="Arial"/>
              </a:rPr>
              <a:t>Întrebarea de unitat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WordArt 6"/>
          <p:cNvSpPr txBox="1"/>
          <p:nvPr/>
        </p:nvSpPr>
        <p:spPr>
          <a:xfrm>
            <a:off x="684360" y="4005360"/>
            <a:ext cx="78390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um se poate realiza un transport ecologic 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Întrebări de conţin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Ce este o rețea de transport?                                                                                       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Care este structura unei rețele de transport ?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Cum se clasifică mijloacele de transport terestre?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Care sunt momentele importante în evoluția tehnologiilor de transport</a:t>
            </a:r>
            <a:r>
              <a:rPr b="0" lang="it-IT" sz="23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3366"/>
                </a:solidFill>
                <a:latin typeface="Arial"/>
              </a:rPr>
              <a:t>Care sunt </a:t>
            </a: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factorii poluanți determinați de transporturi</a:t>
            </a:r>
            <a:r>
              <a:rPr b="0" lang="it-IT" sz="23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it-IT" sz="23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este un mijloc de transport neconvențional</a:t>
            </a:r>
            <a:r>
              <a:rPr b="0" lang="it-IT" sz="23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e mijloace de protecție propuneți pentru diminuarea poluării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1-Pregătirea unităţii de învăţa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Prezentarea metodei de învăţare prin proi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Identificarea nevoilor de învăţare ale elevil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Prezentarea legii privind dreptul de au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Broșura  despre metoda proiectulu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dentificare nevoi.p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şa de evaluare iniţial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şa personal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Chestionar privind drepturile de au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023840" y="193680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ven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ţ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984920" y="1916280"/>
            <a:ext cx="210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5127480" y="1936800"/>
            <a:ext cx="182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4840200" y="1916280"/>
            <a:ext cx="27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Realizat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r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1-Pregătirea unităţii de învăţa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Verificare abilităţi de utilizare a resurselor tehnolog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valuare iniţial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Lista de verificare abilităţi de utilizare a resurselor tehnolog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iagrama K-W-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026360" y="1936800"/>
            <a:ext cx="11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ven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ţ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791600" y="191628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Realizată pr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2-Pregătirea unităţii de învăţare şi iniţierea proiectulu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Se formează echipele de proiect .Fiecare echipă va avea un număr sau un nu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Aşezarea corespunzătoare la computere le va permite elevilor să discute şi să redacteze materialele de gru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2-Pregătirea unităţii de învăţare şi iniţierea proiectulu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Prezentarea planului proiectulu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Prelucrare reguli şi nor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Iniţierea proiectulu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Evaluare formativ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Plan proiect.pp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Discuţi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Personalizarea folder-ului de către fiecare ele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Exemplu de prezentare proiect.pp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Prezentarea grilei de evaluare criterial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Jurnal de reflecţi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026360" y="1936800"/>
            <a:ext cx="11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ven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ţ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791600" y="191628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Realizată pr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2-Pregătirea unităţii de învăţare şi iniţierea proiectulu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La prima înâlnire a echipei se va stabil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ma aleas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ă pentru proie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Forma de prezentare(broşură, publicaţie, buletin informativ,articol în revistă, prezentare, blog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ificarea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şedinţelor de lucru ale grupulu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ribuirea sarcinilor individual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1T17:31:13Z</dcterms:created>
  <dc:creator>Cristi</dc:creator>
  <dc:description/>
  <dc:language>en-US</dc:language>
  <cp:lastModifiedBy>Domo</cp:lastModifiedBy>
  <dcterms:modified xsi:type="dcterms:W3CDTF">2010-05-16T16:19:23Z</dcterms:modified>
  <cp:revision>10</cp:revision>
  <dc:subject/>
  <dc:title>Slide 1</dc:title>
</cp:coreProperties>
</file>