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445C-801F-4FF4-80C5-049B4FD31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5FEB-396F-494C-8798-7BD707A8E13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46E-6F1D-4CDE-9537-C7A6C091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8B1-6F6C-4D6A-9154-4657DF58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E7D-470E-410C-8377-1207B7FF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B7A-B0E9-4446-9A04-469AD419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59CB-9FD1-456C-AB0D-906822DE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1C06-327B-4F36-B699-9284900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A4A8-C4A2-46AF-B367-D82CBAE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71B7-5F0D-44D1-823C-6C64274C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441-0248-4646-BE9D-91EB31C8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19C1-6D25-497A-91E5-069BEEB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EE9-50C9-4141-BA07-D529DDF8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E6F-421D-4C63-A42B-D07728A0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053A-E244-40CF-A891-02B0B5E6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5C6-AB85-4322-ABFD-01D2FB2B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B0B4-3D4E-4C6F-A132-8E4C2530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BAE5-6F80-4E46-A67D-E43F3C1D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73BE-68E6-466A-B598-C9E96677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09C-386B-4197-8765-171CFAF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9D9-2A1C-4436-83B9-1584B83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3FB-A751-446D-AC4D-D8454173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347-1ADD-482A-B3C0-8DCF089F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ADC7-F0D5-458D-A5AA-E11DB42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9FE-E337-428F-AD5F-F248D9EE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12C-5B2C-4E03-8B00-7355CDA7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B412-BFA6-48C5-81A3-BC535A1A0A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DCA2-A401-42A7-81A1-3418FA5F81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REȚELE  ȘI  MIJLOACE DE     TRANSPORT  TEREST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ROIECT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DE PRED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PRIN PROIECTE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UCA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Ţ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E TEHNOLOGIC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8800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Profeso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1" lang="ro-RO" sz="1800" spc="-1" strike="noStrike">
                <a:solidFill>
                  <a:srgbClr val="003366"/>
                </a:solidFill>
                <a:latin typeface="Arial"/>
              </a:rPr>
              <a:t>Nemes Ildik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57160" y="29286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are individual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28760" y="3285720"/>
            <a:ext cx="35989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57160" y="42861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3 –Reactualizarea noţiunilor legate de prisma op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Prisma optic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 Dispersia luminii în natură şi tehnică. Interpretare elctromagnetic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escoperire dirijat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7480" y="2714400"/>
            <a:ext cx="359892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Fişa de activitat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persia lumin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de facilit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Resurse inter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tforma A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826920" y="5229360"/>
            <a:ext cx="403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periment integrat în lecţi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4 Rețele și mijloace de transport ferovi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3949920" cy="14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00" y="2361960"/>
            <a:ext cx="35989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țele și mijloace de transport ruti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50760" y="4168800"/>
            <a:ext cx="333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826920" y="4869000"/>
            <a:ext cx="40323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laborare proiec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4859280" y="5084640"/>
            <a:ext cx="38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Lecția 5: Poluarea și soluțiile de protejare a mediul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laborare proi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oluarea și mijloace de diminuare a poluăr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bservarea elevi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Reflecţii în ju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tâlnire de gr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Lecţia 6</a:t>
            </a:r>
            <a:r>
              <a:rPr b="1" lang="it-IT" sz="3600" spc="-1" strike="noStrike" u="sng">
                <a:solidFill>
                  <a:srgbClr val="006666"/>
                </a:solidFill>
                <a:uFillTx/>
                <a:latin typeface="Arial"/>
              </a:rPr>
              <a:t>:</a:t>
            </a:r>
            <a:r>
              <a:rPr b="1" lang="ro-RO" sz="3600" spc="-1" strike="noStrike" u="sng">
                <a:solidFill>
                  <a:srgbClr val="006666"/>
                </a:solidFill>
                <a:uFillTx/>
                <a:latin typeface="Arial"/>
              </a:rPr>
              <a:t>Elaborarea prezentăr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ctivitate pe grupe pentru definitivarea prezentăr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rezentarea portofoliilor cu toate documentele complet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 complete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ză Fişa de autoevaluare a activităţii în echip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ile 7 şi 8:Susţinerea proiecte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iecare echipă are la dispoziţie 10-15 min pentru prezentarea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ecare echipa va evalu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i proiectul unei alte echi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fesorul va colabora cu elevii la not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d-b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vii sunt rug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i să prezinte reflecţii asupra Metodei proiect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letarea unui Formular de Feed-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SĂ PARCURGEM ÎMPREUNĂ ACEŞTI PAŞI PENTRU A AF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928800" y="3500280"/>
            <a:ext cx="764388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32000" y="98064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trebarea esen</a:t>
            </a:r>
            <a:r>
              <a:rPr b="0" lang="ro-RO" sz="3200" spc="-1" strike="noStrike">
                <a:solidFill>
                  <a:srgbClr val="003366"/>
                </a:solidFill>
                <a:latin typeface="Arial"/>
              </a:rPr>
              <a:t>ţial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1214280" y="4500720"/>
            <a:ext cx="7143840" cy="151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au ajutat transporturi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ntru progresul societății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66"/>
                </a:solidFill>
                <a:latin typeface="Arial"/>
              </a:rPr>
              <a:t>Întrebarea de unitat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684360" y="4005360"/>
            <a:ext cx="7839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m se poate realiza un transport ecologic 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Întrebări de conţin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e este o rețea de transport?                                                                                    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este structura unei rețele de transport 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um se clasifică mijloacele de transport terestre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are sunt momentele importante în evoluția tehnologiilor de transport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Care sunt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factorii poluanți determinați de transporturi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e 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ste un mijloc de transport neconvențional</a:t>
            </a:r>
            <a:r>
              <a:rPr b="0" lang="it-IT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ro-RO" sz="2300" spc="-1" strike="noStrike">
                <a:solidFill>
                  <a:srgbClr val="003366"/>
                </a:solidFill>
                <a:latin typeface="Arial"/>
              </a:rPr>
              <a:t>e mijloace de protecție propuneți pentru diminuarea poluării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metodei de învăţare prin proi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dentificarea nevoilor de învăţare ale elevil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rezentarea legii privind dreptul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Broșura  despre metoda proiectulu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dentificare nevoi.p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de 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şa person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hestionar privind drepturile de au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023840" y="1936800"/>
            <a:ext cx="20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984920" y="1916280"/>
            <a:ext cx="210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127480" y="1936800"/>
            <a:ext cx="18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840200" y="1916280"/>
            <a:ext cx="27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1-Pregătirea unităţii de învăţa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valuare iniţ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Lista de verificare abilităţi de utilizare a resurselor tehnolog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iagrama K-W-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formează echipele de proiect .Fiecare echipă va avea un număr sau un nu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şezarea corespunzătoare la computere le va permite elevilor să discute şi să redacteze materialele de gr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planului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lucrare reguli şi nor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Iniţierea proiectulu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valuare formativ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lan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Discu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ersonalizarea folder-ului de către fiecare ele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Exemplu de prezentare proiect.p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Prezentarea grilei de evaluare criterial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Jurnal de reflecţi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26360" y="1936800"/>
            <a:ext cx="11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ven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ţ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791600" y="191628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Realizată pr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 u="sng">
                <a:solidFill>
                  <a:srgbClr val="006666"/>
                </a:solidFill>
                <a:uFillTx/>
                <a:latin typeface="Arial"/>
              </a:rPr>
              <a:t>Lecţia 2-Pregătirea unităţii de învăţare şi iniţierea proiectulu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La prima înâlnire a echipei se va stabil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a aleas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 pentru proi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orma de prezentare(broşură, publicaţie, buletin informativ,articol în revistă, prezentare, blo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nificarea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şedinţelor de lucru ale grupulu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ribuirea sarcinilor individual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7:31:13Z</dcterms:created>
  <dc:creator>Cristi</dc:creator>
  <dc:description/>
  <dc:language>en-US</dc:language>
  <cp:lastModifiedBy>Domo</cp:lastModifiedBy>
  <dcterms:modified xsi:type="dcterms:W3CDTF">2010-05-16T16:19:23Z</dcterms:modified>
  <cp:revision>10</cp:revision>
  <dc:subject/>
  <dc:title>Slide 1</dc:title>
</cp:coreProperties>
</file>