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65DB-B968-4FBB-98C1-D30E5E3C9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66A7-AB40-4E91-B1C0-B483DA2ED905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74FC-ED1C-45B2-A434-629FD3DB2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01D9-037F-41C2-9EE3-5DE2BED9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E1C7-384F-4348-86C8-C7CB5B16B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4FF2-642A-42E9-B65D-608AFBD67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F0DA-3CD9-4C2C-A7A5-198211FE2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58B1-D09C-4405-AB42-AB2D5F5E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18DF-F9B2-4BA8-9C2A-A3CBFD95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55A7-1A3D-45CF-B4AE-EA19E25C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92A5-86BC-4A7E-A6BC-D9AD83E6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DD35-B6E4-436B-9B67-6E7289E0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1EBE-77D2-4E9A-802C-4488BB83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E9BA-78C6-43B2-9B8E-D64B0A5F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A83E-B951-4EA1-BD1E-7C18EB8B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636C-230E-4DF6-85F2-9DCF74AB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2F34-63CC-443B-876B-691EE7A7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274F-D591-4AC8-9C8D-C96B3C0C8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A4F4-EAFB-4A2E-B620-36E547E55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2567-D46A-4346-A12C-C54BBB71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E489-983C-472B-A5F0-43FBFD39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116B-941A-4432-A382-FF614C24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32E0-AD42-4060-855C-8819E6CE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38B1-122C-453D-8C83-AEFA6F4C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F6EC-9F25-4308-9EE0-E37A5569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B21D-258B-484A-A945-2B3F9BCF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0B41-B012-4002-9409-8BF5C423D94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9D35-8ACC-49DD-BE45-22274B707F4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3366"/>
                </a:solidFill>
                <a:latin typeface="Arial"/>
              </a:rPr>
              <a:t>REȚELE  ȘI  MIJLOACE DE     TRANSPORT  TEREST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PROIECT </a:t>
            </a:r>
            <a:r>
              <a:rPr b="1" lang="ro-RO" sz="2000" spc="-1" strike="noStrike">
                <a:solidFill>
                  <a:srgbClr val="006666"/>
                </a:solidFill>
                <a:latin typeface="Arial"/>
              </a:rPr>
              <a:t> DE PREDA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6666"/>
                </a:solidFill>
                <a:latin typeface="Arial"/>
              </a:rPr>
              <a:t>PRIN PROIECTE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EDUCA</a:t>
            </a:r>
            <a:r>
              <a:rPr b="1" lang="ro-RO" sz="2000" spc="-1" strike="noStrike">
                <a:solidFill>
                  <a:srgbClr val="006666"/>
                </a:solidFill>
                <a:latin typeface="Arial"/>
              </a:rPr>
              <a:t>Ţ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006666"/>
                </a:solidFill>
                <a:latin typeface="Arial"/>
              </a:rPr>
              <a:t>E TEHNOLOGIC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4788000" y="5661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66"/>
                </a:solidFill>
                <a:latin typeface="Arial"/>
              </a:rPr>
              <a:t>Profesor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1" lang="ro-RO" sz="1800" spc="-1" strike="noStrike">
                <a:solidFill>
                  <a:srgbClr val="003366"/>
                </a:solidFill>
                <a:latin typeface="Arial"/>
              </a:rPr>
              <a:t>Nemes Ildik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 u="sng">
                <a:solidFill>
                  <a:srgbClr val="006666"/>
                </a:solidFill>
                <a:uFillTx/>
                <a:latin typeface="Arial"/>
              </a:rPr>
              <a:t>Lecţia 3 –Reactualizarea noţiunilor legate de prisma optică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57160" y="2928600"/>
            <a:ext cx="3949920" cy="14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cumentare individual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28760" y="3285720"/>
            <a:ext cx="359892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Fişa de activitat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Rețele și mijloace de transport ruti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Resurse de facilita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Resurse intern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Platforma A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950760" y="4168800"/>
            <a:ext cx="333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857160" y="4286160"/>
            <a:ext cx="4032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Experiment integrat în lecţi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 u="sng">
                <a:solidFill>
                  <a:srgbClr val="006666"/>
                </a:solidFill>
                <a:uFillTx/>
                <a:latin typeface="Arial"/>
              </a:rPr>
              <a:t>Lecţia 3 –Reactualizarea noţiunilor legate de prisma optică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6920" y="2349000"/>
            <a:ext cx="3949920" cy="14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Evaluare formativ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32000" y="2361960"/>
            <a:ext cx="3598920" cy="20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Fişa de evaluar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Prisma optic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Observarea elevil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Diagrama K-W-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Reflecţii în jur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950760" y="4168800"/>
            <a:ext cx="333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826920" y="4869000"/>
            <a:ext cx="403236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Elaborare proiec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4859280" y="5084640"/>
            <a:ext cx="388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Întâlnire de gr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 u="sng">
                <a:solidFill>
                  <a:srgbClr val="006666"/>
                </a:solidFill>
                <a:uFillTx/>
                <a:latin typeface="Arial"/>
              </a:rPr>
              <a:t>Lecţia 4  Dispersia luminii în natură şi tehnică. Interpretare elctromagnetică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26920" y="2349000"/>
            <a:ext cx="3949920" cy="14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Descoperire dirijat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857480" y="2714400"/>
            <a:ext cx="3598920" cy="20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Fişa de activita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Dispersia lumini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63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Resurse de facilita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63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Resurse intern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63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Platforma A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826920" y="5229360"/>
            <a:ext cx="4032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Experiment integrat în lecţi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 u="sng">
                <a:solidFill>
                  <a:srgbClr val="006666"/>
                </a:solidFill>
                <a:uFillTx/>
                <a:latin typeface="Arial"/>
              </a:rPr>
              <a:t>Lecţia 4 Rețele și mijloace de transport feroviar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26920" y="2349000"/>
            <a:ext cx="3949920" cy="14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Evaluare formativ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00" y="2361960"/>
            <a:ext cx="3598920" cy="24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Fişa de evaluar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Rețele și mijloace de transport ruti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Observarea elevil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Diagrama K-W-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Reflecţii în jur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950760" y="4168800"/>
            <a:ext cx="333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826920" y="4869000"/>
            <a:ext cx="403236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Elaborare proiec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4859280" y="5084640"/>
            <a:ext cx="388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Întâlnire de gr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Lecția 5: Poluarea și soluțiile de protejare a mediulu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Evaluare formativ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Elaborare proi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Fişa de evaluar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Poluarea și mijloace de diminuare a poluări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Observarea elevil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Diagrama K-W-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Reflecţii în jur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Întâlnire de gr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 u="sng">
                <a:solidFill>
                  <a:srgbClr val="006666"/>
                </a:solidFill>
                <a:uFillTx/>
                <a:latin typeface="Arial"/>
              </a:rPr>
              <a:t>Lecţia 6</a:t>
            </a:r>
            <a:r>
              <a:rPr b="1" lang="it-IT" sz="3600" spc="-1" strike="noStrike" u="sng">
                <a:solidFill>
                  <a:srgbClr val="006666"/>
                </a:solidFill>
                <a:uFillTx/>
                <a:latin typeface="Arial"/>
              </a:rPr>
              <a:t>:</a:t>
            </a:r>
            <a:r>
              <a:rPr b="1" lang="ro-RO" sz="3600" spc="-1" strike="noStrike" u="sng">
                <a:solidFill>
                  <a:srgbClr val="006666"/>
                </a:solidFill>
                <a:uFillTx/>
                <a:latin typeface="Arial"/>
              </a:rPr>
              <a:t>Elaborarea prezentări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Activitate pe grupe pentru definitivarea prezentări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Prezentarea portofoliilor cu toate documentele completat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 completea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ză Fişa de autoevaluare a activităţii în echip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 u="sng">
                <a:solidFill>
                  <a:srgbClr val="006666"/>
                </a:solidFill>
                <a:uFillTx/>
                <a:latin typeface="Arial"/>
              </a:rPr>
              <a:t>Lecţiile 7 şi 8:Susţinerea proiectelo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Fiecare echipă are la dispoziţie 10-15 min pentru prezentarea proiectulu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ecare echipa va evalua 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şi proiectul unei alte echip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fesorul va colabora cu elevii la notar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eed-bac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vii sunt ruga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ţi să prezinte reflecţii asupra Metodei proiectulu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letarea unui Formular de Feed-ba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3366"/>
                </a:solidFill>
                <a:latin typeface="Arial"/>
              </a:rPr>
              <a:t>SĂ PARCURGEM ÎMPREUNĂ ACEŞTI PAŞI PENTRU A AFL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928800" y="3500280"/>
            <a:ext cx="7643880" cy="15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um au ajutat transporturile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entru progresul societății?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332000" y="980640"/>
            <a:ext cx="4013280" cy="182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ntrebarea esen</a:t>
            </a:r>
            <a:r>
              <a:rPr b="0" lang="ro-RO" sz="3200" spc="-1" strike="noStrike">
                <a:solidFill>
                  <a:srgbClr val="003366"/>
                </a:solidFill>
                <a:latin typeface="Arial"/>
              </a:rPr>
              <a:t>ţială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WordArt 4"/>
          <p:cNvSpPr txBox="1"/>
          <p:nvPr/>
        </p:nvSpPr>
        <p:spPr>
          <a:xfrm>
            <a:off x="1214280" y="4500720"/>
            <a:ext cx="7143840" cy="151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um au ajutat transporturil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entru progresul societății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3366"/>
                </a:solidFill>
                <a:latin typeface="Arial"/>
              </a:rPr>
              <a:t>Întrebarea de unitate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WordArt 6"/>
          <p:cNvSpPr txBox="1"/>
          <p:nvPr/>
        </p:nvSpPr>
        <p:spPr>
          <a:xfrm>
            <a:off x="684360" y="4005360"/>
            <a:ext cx="78390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um se poate realiza un transport ecologic 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Întrebări de conţinu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>
                <a:solidFill>
                  <a:srgbClr val="003366"/>
                </a:solidFill>
                <a:latin typeface="Arial"/>
              </a:rPr>
              <a:t>Ce este o rețea de transport?                                                                                        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>
                <a:solidFill>
                  <a:srgbClr val="003366"/>
                </a:solidFill>
                <a:latin typeface="Arial"/>
              </a:rPr>
              <a:t>Care este structura unei rețele de transport ?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>
                <a:solidFill>
                  <a:srgbClr val="003366"/>
                </a:solidFill>
                <a:latin typeface="Arial"/>
              </a:rPr>
              <a:t>Cum se clasifică mijloacele de transport terestre?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>
                <a:solidFill>
                  <a:srgbClr val="003366"/>
                </a:solidFill>
                <a:latin typeface="Arial"/>
              </a:rPr>
              <a:t>Care sunt momentele importante în evoluția tehnologiilor de transport</a:t>
            </a:r>
            <a:r>
              <a:rPr b="0" lang="it-IT" sz="23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3366"/>
                </a:solidFill>
                <a:latin typeface="Arial"/>
              </a:rPr>
              <a:t>Care sunt </a:t>
            </a:r>
            <a:r>
              <a:rPr b="0" lang="ro-RO" sz="2300" spc="-1" strike="noStrike">
                <a:solidFill>
                  <a:srgbClr val="003366"/>
                </a:solidFill>
                <a:latin typeface="Arial"/>
              </a:rPr>
              <a:t>factorii poluanți determinați de transporturi</a:t>
            </a:r>
            <a:r>
              <a:rPr b="0" lang="it-IT" sz="23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it-IT" sz="2300" spc="-1" strike="noStrike">
                <a:solidFill>
                  <a:srgbClr val="003366"/>
                </a:solidFill>
                <a:latin typeface="Arial"/>
              </a:rPr>
              <a:t>e </a:t>
            </a:r>
            <a:r>
              <a:rPr b="0" lang="ro-RO" sz="2300" spc="-1" strike="noStrike">
                <a:solidFill>
                  <a:srgbClr val="003366"/>
                </a:solidFill>
                <a:latin typeface="Arial"/>
              </a:rPr>
              <a:t>este un mijloc de transport neconvențional</a:t>
            </a:r>
            <a:r>
              <a:rPr b="0" lang="it-IT" sz="23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ro-RO" sz="2300" spc="-1" strike="noStrike">
                <a:solidFill>
                  <a:srgbClr val="003366"/>
                </a:solidFill>
                <a:latin typeface="Arial"/>
              </a:rPr>
              <a:t>e mijloace de protecție propuneți pentru diminuarea poluării</a:t>
            </a: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 u="sng">
                <a:solidFill>
                  <a:srgbClr val="006666"/>
                </a:solidFill>
                <a:uFillTx/>
                <a:latin typeface="Arial"/>
              </a:rPr>
              <a:t>Lecţia 1-Pregătirea unităţii de învăţar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Prezentarea metodei de învăţare prin proiec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Identificarea nevoilor de învăţare ale elevilo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Prezentarea legii privind dreptul de aut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Broșura  despre metoda proiectulu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dentificare nevoi.pp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Fişa de evaluare iniţial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Fişa personal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Chestionar privind drepturile de aut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1023840" y="1936800"/>
            <a:ext cx="20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ven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ţ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                   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4984920" y="1916280"/>
            <a:ext cx="210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5127480" y="1936800"/>
            <a:ext cx="182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4840200" y="1916280"/>
            <a:ext cx="275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Realizat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pr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 u="sng">
                <a:solidFill>
                  <a:srgbClr val="006666"/>
                </a:solidFill>
                <a:uFillTx/>
                <a:latin typeface="Arial"/>
              </a:rPr>
              <a:t>Lecţia 1-Pregătirea unităţii de învăţar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Verificare abilităţi de utilizare a resurselor tehnolog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Evaluare iniţial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Lista de verificare abilităţi de utilizare a resurselor tehnolog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Diagrama K-W-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026360" y="1936800"/>
            <a:ext cx="11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ven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ţ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4791600" y="1916280"/>
            <a:ext cx="15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Realizată pri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 u="sng">
                <a:solidFill>
                  <a:srgbClr val="006666"/>
                </a:solidFill>
                <a:uFillTx/>
                <a:latin typeface="Arial"/>
              </a:rPr>
              <a:t>Lecţia 2-Pregătirea unităţii de învăţare şi iniţierea proiectulu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Se formează echipele de proiect .Fiecare echipă va avea un număr sau un nu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Aşezarea corespunzătoare la computere le va permite elevilor să discute şi să redacteze materialele de grup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 u="sng">
                <a:solidFill>
                  <a:srgbClr val="006666"/>
                </a:solidFill>
                <a:uFillTx/>
                <a:latin typeface="Arial"/>
              </a:rPr>
              <a:t>Lecţia 2-Pregătirea unităţii de învăţare şi iniţierea proiectulu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Prezentarea planului proiectulu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Prelucrare reguli şi nor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Iniţierea proiectulu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Evaluare formativ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Plan proiect.pp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Discuţi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Personalizarea folder-ului de către fiecare elev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Exemplu de prezentare proiect.pp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Prezentarea grilei de evaluare criterial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Jurnal de reflecţi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026360" y="1936800"/>
            <a:ext cx="11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ven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ţ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4791600" y="1916280"/>
            <a:ext cx="15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Realizată pri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 u="sng">
                <a:solidFill>
                  <a:srgbClr val="006666"/>
                </a:solidFill>
                <a:uFillTx/>
                <a:latin typeface="Arial"/>
              </a:rPr>
              <a:t>Lecţia 2-Pregătirea unităţii de învăţare şi iniţierea proiectulu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La prima înâlnire a echipei se va stabil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ma aleas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ă pentru proiec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Forma de prezentare(broşură, publicaţie, buletin informativ,articol în revistă, prezentare, blog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nificarea 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şedinţelor de lucru ale grupulu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ribuirea sarcinilor individual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1T17:31:13Z</dcterms:created>
  <dc:creator>Cristi</dc:creator>
  <dc:description/>
  <dc:language>en-US</dc:language>
  <cp:lastModifiedBy>Domo</cp:lastModifiedBy>
  <dcterms:modified xsi:type="dcterms:W3CDTF">2010-05-16T16:19:23Z</dcterms:modified>
  <cp:revision>10</cp:revision>
  <dc:subject/>
  <dc:title>Slide 1</dc:title>
</cp:coreProperties>
</file>