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2.png" ContentType="image/png"/>
  <Override PartName="/ppt/media/image16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F5E-ABBB-46F3-9CF0-A5F8EE3A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7A76-21E7-4EE8-B33B-15F92DC4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910-344E-4676-8018-8AD2AADE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727-2273-4657-ACDC-E714688A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5BAA-32F9-4932-A9EB-20546DA5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55AD-8005-4C97-9590-DFDA2EF7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E8BD-DDF7-4888-B68B-8028D0C7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7E81-6D0A-4230-8BEE-9603E638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FA05-39E4-469E-B293-D67F0E7D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36FB-820E-4D74-AE36-9D186BEF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28C5-6A67-4F9C-8D81-040B35C9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C49-7EA2-4137-982A-179C98C0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B54A-7C25-4D35-9BA7-0C7B40F6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94E2-57CD-4EB2-9DD1-7F716196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7365-4EA6-45A6-8C90-06917524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C6B0-A919-4588-81A2-24275478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F779-43CF-41BC-9B0A-FBAAE926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9654-5D23-4EC1-8195-8970E49D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60B6-8C30-452B-BBC1-07CC6F37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9A4-357B-45EC-BC6C-101C7636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5AE-7DD5-43F4-9930-D3E7C5AE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FAF-1CF4-4ECD-A74B-87E5DBF0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612-FEFF-4B6A-82FA-2BC2E090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4A2-6419-4004-9743-7DE2B8C0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3A1C-414C-45AD-8EDE-85D453298B04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C7F1-2812-4470-BE9A-D45A19AA2079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ro.wikipedia.org/wiki/Imagine:CFR_etajat_acc.jpg" TargetMode="External"/><Relationship Id="rId5" Type="http://schemas.openxmlformats.org/officeDocument/2006/relationships/image" Target="../media/image5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ms.info.uaic.ro/photos/alexm/images/1612/425x319.aspx" TargetMode="External"/><Relationship Id="rId5" Type="http://schemas.openxmlformats.org/officeDocument/2006/relationships/image" Target="../media/image9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hyperlink" Target="http://images.google.ro/imgres?imgurl=http://www.madrid.org/metro/imagenes/estaciones/aeropuerto/tunel_1024.jpg&amp;imgrefurl=http://www.madrid.org/metro/estaciones/info_aeropuerto.html&amp;h=768&amp;w=1024&amp;sz=67&amp;hl=ro&amp;start=1&amp;um=1&amp;tbnid=e961r5_Nu83pcM:&amp;tbnh=113&amp;tbnw=150&amp;prev=/images%3Fq%3Dtunel%2B%26svnum%3D10%26um%3D1%26hl%3Dro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ro.wikipedia.org/wiki/Imagine:Viaduct_Oravita_Anina.jpg" TargetMode="External"/><Relationship Id="rId6" Type="http://schemas.openxmlformats.org/officeDocument/2006/relationships/image" Target="../media/image16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00120" y="1928880"/>
            <a:ext cx="63993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Verdana"/>
              </a:rPr>
              <a:t>Rețele  și mijloace de transport ferovia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28440" y="5071680"/>
            <a:ext cx="63990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Proiect realizat de elevii clasei a VII-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Școala cu clasele I- VIII Boi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Grupa: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3280" y="980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PORTUL FEROVI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99640" y="2060640"/>
            <a:ext cx="7201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. Transportul feroviar efectuea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z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plasarea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în spaţiu a bunurilor şi a persoanelor cu ajutorul mijloacelor de tracţiune (locomotivelor) şi a mijloacelor de tractare (vagoanele), care circulă pe trasee fixe de căi de transpor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cale ferata"/>
          <p:cNvPicPr/>
          <p:nvPr/>
        </p:nvPicPr>
        <p:blipFill>
          <a:blip r:embed="rId2"/>
          <a:stretch/>
        </p:blipFill>
        <p:spPr>
          <a:xfrm>
            <a:off x="3348000" y="4581360"/>
            <a:ext cx="2160720" cy="167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tren"/>
          <p:cNvPicPr/>
          <p:nvPr/>
        </p:nvPicPr>
        <p:blipFill>
          <a:blip r:embed="rId3"/>
          <a:stretch/>
        </p:blipFill>
        <p:spPr>
          <a:xfrm>
            <a:off x="6084720" y="429264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Noile vagoane accelerate etajat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4441680"/>
            <a:ext cx="2665440" cy="2082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6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533520"/>
            <a:ext cx="7856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Verdana"/>
              </a:rPr>
              <a:t>Istoric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904760"/>
            <a:ext cx="81439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750 apar şinele din f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04 prima locomotiva cu aburi făcută de americ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25- primul tren de persoa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în Angl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81-apare locomotiva cu ab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924-apare locomotiva Dies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54- primele linii în România Oraviţa- Bazia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locomotiva1"/>
          <p:cNvPicPr/>
          <p:nvPr/>
        </p:nvPicPr>
        <p:blipFill>
          <a:blip r:embed="rId2"/>
          <a:stretch/>
        </p:blipFill>
        <p:spPr>
          <a:xfrm>
            <a:off x="6588000" y="2924280"/>
            <a:ext cx="1851120" cy="1439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533520"/>
            <a:ext cx="7640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9999"/>
                </a:solidFill>
                <a:latin typeface="Verdana"/>
              </a:rPr>
              <a:t>Alcătuirea reţelei de transport ferovi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77835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al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Nod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ermin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nod1"/>
          <p:cNvPicPr/>
          <p:nvPr/>
        </p:nvPicPr>
        <p:blipFill>
          <a:blip r:embed="rId2"/>
          <a:stretch/>
        </p:blipFill>
        <p:spPr>
          <a:xfrm>
            <a:off x="3203640" y="2924280"/>
            <a:ext cx="2087640" cy="165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sine"/>
          <p:cNvPicPr/>
          <p:nvPr/>
        </p:nvPicPr>
        <p:blipFill>
          <a:blip r:embed="rId3"/>
          <a:stretch/>
        </p:blipFill>
        <p:spPr>
          <a:xfrm>
            <a:off x="5508720" y="1773360"/>
            <a:ext cx="2219400" cy="166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425x3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4005360"/>
            <a:ext cx="2448000" cy="1774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6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9999"/>
                </a:solidFill>
                <a:latin typeface="Verdana"/>
              </a:rPr>
              <a:t>Calea de transpo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640" y="1904760"/>
            <a:ext cx="77119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alea ferată se poate clasifica după următoarele criteri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După numărul linii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. si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. du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2. După ecart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. cu ecartament normal (1435m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. cu ecartament larg (1524m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. cu ecartament îngust (600-1000 m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3. După poziţia faţă de suprafaţa terenul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. linii de suprafaţ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. linii subterane (metro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. linii suprater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0000">
    <p:fad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333399"/>
                </a:solidFill>
                <a:latin typeface="Verdana"/>
              </a:rPr>
              <a:t>Noduril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711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Gările sunt staţii în c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opresc trenuri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riajele sunt staţii în care opresc trenurile pentru verificări tehnice ale instalaţiilor şi pentru formarea garniturilor de tren c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merg spre diferite destinaţi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BRASOV - TRIAJ"/>
          <p:cNvPicPr/>
          <p:nvPr/>
        </p:nvPicPr>
        <p:blipFill>
          <a:blip r:embed="rId2"/>
          <a:stretch/>
        </p:blipFill>
        <p:spPr>
          <a:xfrm>
            <a:off x="6588000" y="4149720"/>
            <a:ext cx="2305080" cy="203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Regionala Iasi - Suceava"/>
          <p:cNvPicPr/>
          <p:nvPr/>
        </p:nvPicPr>
        <p:blipFill>
          <a:blip r:embed="rId3"/>
          <a:stretch/>
        </p:blipFill>
        <p:spPr>
          <a:xfrm>
            <a:off x="4211640" y="1700280"/>
            <a:ext cx="1714320" cy="1257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gara"/>
          <p:cNvPicPr/>
          <p:nvPr/>
        </p:nvPicPr>
        <p:blipFill>
          <a:blip r:embed="rId4"/>
          <a:stretch/>
        </p:blipFill>
        <p:spPr>
          <a:xfrm>
            <a:off x="6227640" y="1341360"/>
            <a:ext cx="2705400" cy="158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5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9999"/>
                </a:solidFill>
                <a:latin typeface="Verdana"/>
              </a:rPr>
              <a:t>Terminalel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904760"/>
            <a:ext cx="78566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Se numesc şi gări termina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Gara terminal este locul de unde încep şi unde se termină căile fer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zoomGara%20de%20Nord%205"/>
          <p:cNvPicPr/>
          <p:nvPr/>
        </p:nvPicPr>
        <p:blipFill>
          <a:blip r:embed="rId2"/>
          <a:stretch/>
        </p:blipFill>
        <p:spPr>
          <a:xfrm>
            <a:off x="2195640" y="3716280"/>
            <a:ext cx="4681440" cy="2255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533520"/>
            <a:ext cx="7856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Verdana"/>
              </a:rPr>
              <a:t>Construcţii specia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04760"/>
            <a:ext cx="77835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Podur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unel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pod1"/>
          <p:cNvPicPr/>
          <p:nvPr/>
        </p:nvPicPr>
        <p:blipFill>
          <a:blip r:embed="rId2"/>
          <a:stretch/>
        </p:blipFill>
        <p:spPr>
          <a:xfrm>
            <a:off x="2556000" y="1484280"/>
            <a:ext cx="2658960" cy="2127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tunel_10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28960" y="4071960"/>
            <a:ext cx="2592360" cy="1941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Un pod pe linia Oraviţa-Anina, lângă Oraviţa în Munţii Carpaţ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72080" y="1500120"/>
            <a:ext cx="2714760" cy="2041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7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6920" y="533520"/>
            <a:ext cx="74962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Verdana"/>
              </a:rPr>
              <a:t>Trenuri mod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8566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GV- 525km pe or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Monor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renuri suspen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1981-TGV"/>
          <p:cNvPicPr/>
          <p:nvPr/>
        </p:nvPicPr>
        <p:blipFill>
          <a:blip r:embed="rId2"/>
          <a:stretch/>
        </p:blipFill>
        <p:spPr>
          <a:xfrm>
            <a:off x="5508720" y="1989000"/>
            <a:ext cx="2305080" cy="151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120px-Okinawa_City_Monorail"/>
          <p:cNvPicPr/>
          <p:nvPr/>
        </p:nvPicPr>
        <p:blipFill>
          <a:blip r:embed="rId3"/>
          <a:stretch/>
        </p:blipFill>
        <p:spPr>
          <a:xfrm>
            <a:off x="2916360" y="3429000"/>
            <a:ext cx="2089080" cy="1800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07:00:07Z</dcterms:created>
  <dc:creator>Ildi</dc:creator>
  <dc:description/>
  <dc:language>en-US</dc:language>
  <cp:lastModifiedBy>Domo</cp:lastModifiedBy>
  <dcterms:modified xsi:type="dcterms:W3CDTF">2010-05-23T16:20:26Z</dcterms:modified>
  <cp:revision>13</cp:revision>
  <dc:subject/>
  <dc:title>TRANSPORTUL FEROVI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21048</vt:lpwstr>
  </property>
</Properties>
</file>