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up2speed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7C4-6EB1-4F01-A9A4-F55FA634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BFA-7C32-4E24-99AB-33A6EE4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2EF-33D8-4AC8-B83F-C248AB61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4D3-9A70-4CB3-950C-DD21D0CA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DF47-1053-4EBF-B589-C78E7F6C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EB6C-CFDE-4476-87A2-85906EBA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0AFA-0BB3-4409-BA62-08DBEF45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7351-AA18-4509-A383-BBF34BC5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A1AB-C954-4111-89CB-257D324F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4096-EF29-4196-99D4-1D7376ED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00EA-0CCF-4CA0-B3F1-4D3F41D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A8E-F12A-4EBD-908C-EF42964F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6AB9-B75D-4F75-AEE4-0155B1F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667D-43F5-4D3B-9947-365D5B58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9A88-FD9B-488E-AC3A-8A9FA866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58A0-C641-4C08-912D-2A1563D7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A2AC-765F-419E-B01E-F4FBBD20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13E-7874-40B5-9DE4-E3AB3829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C29-A6FA-4FF0-A3B5-37CACAF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20E-1FA3-4D6B-8275-340F6AC1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D60-34CF-4A31-9F35-2879B3ED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24D-1E51-456D-9B34-5E1C4C74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E8F-7DED-4BA2-A177-83CEC57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FAF-3EFC-48FA-9E08-6D901276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EF47-BC3F-4B5A-BD4F-0BA954118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E08B-54B8-4844-9077-A7A5E56DA3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jpe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up2speed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up2speed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5000"/>
                </a:solidFill>
                <a:latin typeface="Arial"/>
              </a:rPr>
              <a:t>REȚELE ȘI MIJLOACE DE TRANSPORT RUTIERE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 rot="20821200">
            <a:off x="592200" y="2703240"/>
            <a:ext cx="2530440" cy="149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 rot="1464600">
            <a:off x="6055920" y="265104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50px-Bucharest_Citaro_bus_3"/>
          <p:cNvPicPr/>
          <p:nvPr/>
        </p:nvPicPr>
        <p:blipFill>
          <a:blip r:embed="rId4"/>
          <a:stretch/>
        </p:blipFill>
        <p:spPr>
          <a:xfrm>
            <a:off x="3429000" y="3962520"/>
            <a:ext cx="261000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33520" y="59436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oiect realizat de elevii clasei  a VII-a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Școala cu clasele I- VIII Bo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Grupa :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5" name="up2spee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are sunt factorii de poluare determinați de transportur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incipala sursă de poluare în marile orașe ale globului o reprezintă transporturile rut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estea elimină în atmosferă cantități mari de fum și gaze de eșapament provenite din arderea combustibililor folosiți de autovehi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anotimpul rece , din cauza cantităților mari de pulberi se formează tipul de ceață numită „smo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Măsuri de protecția mediului în cazul transporturilo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lăturarea emisiilor poluante din arderea combustibili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una funcționare și întreținere a autovehicule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Găsirea de noi surse de energie nepolu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eocuparea constructorilor de mașini pentru găsirea materialelor care se pot recic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um au ajutat transporturile pentru progresul societăți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rile reprezintă o activitate de mare importanță în dezvoltarea economică a țării, asigurând legătura între toate ramurile industriale, între diferite zone ale țării și cu alte țări ale lum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DEFINIR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Transportul rutier asigură deplasarea mărfurilor şi a persoanelor cu ajutorul autovehiculelor şi a mijloacelor tractate pe distanţe relativ scu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 rot="1243200">
            <a:off x="6324120" y="1371240"/>
            <a:ext cx="2246400" cy="168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 rot="1948200">
            <a:off x="4723920" y="3809520"/>
            <a:ext cx="2381400" cy="179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5" name="up2spee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5000"/>
                </a:solidFill>
                <a:latin typeface="Arial"/>
              </a:rPr>
              <a:t>Care este structura rețelei de transport rutier?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Că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Nod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Termin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rum"/>
          <p:cNvPicPr/>
          <p:nvPr/>
        </p:nvPicPr>
        <p:blipFill>
          <a:blip r:embed="rId2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osele1"/>
          <p:cNvPicPr/>
          <p:nvPr/>
        </p:nvPicPr>
        <p:blipFill>
          <a:blip r:embed="rId3"/>
          <a:stretch/>
        </p:blipFill>
        <p:spPr>
          <a:xfrm>
            <a:off x="3581280" y="1752480"/>
            <a:ext cx="2067120" cy="118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utostrada"/>
          <p:cNvPicPr/>
          <p:nvPr/>
        </p:nvPicPr>
        <p:blipFill>
          <a:blip r:embed="rId4"/>
          <a:stretch/>
        </p:blipFill>
        <p:spPr>
          <a:xfrm>
            <a:off x="5867280" y="144792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utogara"/>
          <p:cNvPicPr/>
          <p:nvPr/>
        </p:nvPicPr>
        <p:blipFill>
          <a:blip r:embed="rId5"/>
          <a:stretch/>
        </p:blipFill>
        <p:spPr>
          <a:xfrm>
            <a:off x="5105520" y="4876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stati"/>
          <p:cNvPicPr/>
          <p:nvPr/>
        </p:nvPicPr>
        <p:blipFill>
          <a:blip r:embed="rId6"/>
          <a:stretch/>
        </p:blipFill>
        <p:spPr>
          <a:xfrm>
            <a:off x="2819520" y="31240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rum"/>
          <p:cNvPicPr/>
          <p:nvPr/>
        </p:nvPicPr>
        <p:blipFill>
          <a:blip r:embed="rId7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ăile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ef. </a:t>
            </a:r>
            <a:r>
              <a:rPr b="1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rumul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o porţiune de teren îngustă şi continuă, amenajată şi consolidată, destinată circulaţiei autovehiculelor de orice tip şi pietoni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210075179_c00a2ecab8_m"/>
          <p:cNvPicPr/>
          <p:nvPr/>
        </p:nvPicPr>
        <p:blipFill>
          <a:blip r:embed="rId2"/>
          <a:stretch/>
        </p:blipFill>
        <p:spPr>
          <a:xfrm>
            <a:off x="304920" y="3886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86900009_bad4adb2d3_m"/>
          <p:cNvPicPr/>
          <p:nvPr/>
        </p:nvPicPr>
        <p:blipFill>
          <a:blip r:embed="rId3"/>
          <a:stretch/>
        </p:blipFill>
        <p:spPr>
          <a:xfrm>
            <a:off x="6095880" y="373392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001a"/>
          <p:cNvPicPr/>
          <p:nvPr/>
        </p:nvPicPr>
        <p:blipFill>
          <a:blip r:embed="rId4"/>
          <a:stretch/>
        </p:blipFill>
        <p:spPr>
          <a:xfrm>
            <a:off x="2438280" y="38862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magine:PompeiiStreet.jpg"/>
          <p:cNvPicPr/>
          <p:nvPr/>
        </p:nvPicPr>
        <p:blipFill>
          <a:blip r:embed="rId5"/>
          <a:stretch/>
        </p:blipFill>
        <p:spPr>
          <a:xfrm>
            <a:off x="4267080" y="3886200"/>
            <a:ext cx="1621080" cy="21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6" name="up2spee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000"/>
                </a:solidFill>
                <a:latin typeface="Arial"/>
              </a:rPr>
              <a:t>Noduril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a este un loc amenaj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pecial unde pasagerii urc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au coboară din mijloacel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utogările sunt spaţii care cuprind terenuri de parcare şi clădiri în care se realizează activităţi de coordonar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lu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statie autobuz"/>
          <p:cNvPicPr/>
          <p:nvPr/>
        </p:nvPicPr>
        <p:blipFill>
          <a:blip r:embed="rId2"/>
          <a:stretch/>
        </p:blipFill>
        <p:spPr>
          <a:xfrm>
            <a:off x="6248520" y="7621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utogara"/>
          <p:cNvPicPr/>
          <p:nvPr/>
        </p:nvPicPr>
        <p:blipFill>
          <a:blip r:embed="rId3"/>
          <a:stretch/>
        </p:blipFill>
        <p:spPr>
          <a:xfrm>
            <a:off x="5867280" y="48006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4" name="up2spee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lasificarea mijloacele de transport rutie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cicle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cic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ehic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057400" cy="1358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6400800" y="3581280"/>
            <a:ext cx="220968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tretch/>
        </p:blipFill>
        <p:spPr>
          <a:xfrm>
            <a:off x="3809880" y="320040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7"/>
          <a:stretch/>
        </p:blipFill>
        <p:spPr>
          <a:xfrm>
            <a:off x="838080" y="4800600"/>
            <a:ext cx="2590920" cy="147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Automobilul IERI ŞI AZI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855-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Karl Benz realizeaza primul automobil cu motor cu ardere inter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870-Automobilele cu aburi începusera sǎ fie construite în America încǎ înainte de Rǎzboiul Ci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06 - Rolls Royc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54-MERCEDES 300 S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005 -a fost 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l mai frumos automobil din lume-ALFA 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228888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207648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981080" cy="1312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6"/>
          <a:stretch/>
        </p:blipFill>
        <p:spPr>
          <a:xfrm>
            <a:off x="3581280" y="3809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"/>
          <p:cNvPicPr/>
          <p:nvPr/>
        </p:nvPicPr>
        <p:blipFill>
          <a:blip r:embed="rId7"/>
          <a:stretch/>
        </p:blipFill>
        <p:spPr>
          <a:xfrm>
            <a:off x="5867280" y="4876920"/>
            <a:ext cx="2438640" cy="161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Evoluția tehnologiilor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bur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 fost inventat de către James Watt în 1780, transformă energia aburului în energie mecanic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rdere internă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către Otto Benz și Daimler, funcționează cu benzin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Diesel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Rudolf Diesel în 1892, combustibilul se aprinde singur atunci când este injectat în aerul comprimat fierbi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electric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ționează cu ajutorul curentului 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23T06:17:3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