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image2.png" ContentType="image/png"/>
  <Override PartName="/ppt/media/image16.jpeg" ContentType="image/jpeg"/>
  <Override PartName="/ppt/media/chimes.wav" ContentType="audio/x-wav"/>
  <Override PartName="/ppt/media/image9.jpeg" ContentType="image/jpeg"/>
  <Override PartName="/ppt/media/image11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D563-A744-4BD9-939A-48E5B97B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4A8A-E327-42C7-BB15-59736235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EEA7-DB06-4E04-B9C4-22EB517D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F122-255C-4F59-908F-033ABC52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E7A6-4D12-4B0E-BFE3-DD17A085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B709-2ED5-4638-BC82-046009B1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E2B0-C769-4CEC-945B-5AEA2E82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E0EB-A561-4645-8F86-0992CC9C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431D-0A50-4DC9-A6F9-135664C5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30E5-79B9-4B5B-ADB0-0BDBDC7B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83D9-71F7-462B-BDDF-E74DE005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8743-C8FC-4889-9CBD-991B0320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A029-AF4A-4F01-B3B5-036E8D9D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5CC4-C1F3-4587-A9EA-86061269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D579-E9A4-46A2-A7A1-D94D51C9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3A8E-E5F3-4F3D-B137-C8DE0818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4AB2-341F-4FE9-A43E-288C8026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723A-0407-43D8-9A8C-92642A77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9672-B0E2-4A82-86DC-7103B0E8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5F62-1F06-474E-87C7-B395359E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97E1-0228-443C-A771-32A6B1E3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A3E0-045E-4A58-B75E-65D3BF60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F4DB-6CD4-44D5-B0BA-BCCC4D29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94D0-08C3-4A43-8028-F9559E5E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75F2-E523-4AE0-BB3F-7007342F6AC2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9C0B-908A-43E4-830B-DA31F61D2363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ro.wikipedia.org/wiki/Imagine:CFR_etajat_acc.jpg" TargetMode="External"/><Relationship Id="rId5" Type="http://schemas.openxmlformats.org/officeDocument/2006/relationships/image" Target="../media/image5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hyperlink" Target="http://ms.info.uaic.ro/photos/alexm/images/1612/425x319.aspx" TargetMode="External"/><Relationship Id="rId5" Type="http://schemas.openxmlformats.org/officeDocument/2006/relationships/image" Target="../media/image9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hyperlink" Target="http://images.google.ro/imgres?imgurl=http://www.madrid.org/metro/imagenes/estaciones/aeropuerto/tunel_1024.jpg&amp;imgrefurl=http://www.madrid.org/metro/estaciones/info_aeropuerto.html&amp;h=768&amp;w=1024&amp;sz=67&amp;hl=ro&amp;start=1&amp;um=1&amp;tbnid=e961r5_Nu83pcM:&amp;tbnh=113&amp;tbnw=150&amp;prev=/images%3Fq%3Dtunel%2B%26svnum%3D10%26um%3D1%26hl%3Dro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ro.wikipedia.org/wiki/Imagine:Viaduct_Oravita_Anina.jpg" TargetMode="External"/><Relationship Id="rId6" Type="http://schemas.openxmlformats.org/officeDocument/2006/relationships/image" Target="../media/image16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00120" y="1928880"/>
            <a:ext cx="63993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Verdana"/>
              </a:rPr>
              <a:t>Rețele  și mijloace de transport ferovia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28440" y="5071680"/>
            <a:ext cx="63990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Proiect realizat de elevii clasei a VII-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Școala cu clasele I- VIII Boi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Grupa:I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3280" y="980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NSPORTUL FEROVI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99640" y="2060640"/>
            <a:ext cx="7201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. Transportul feroviar efectuea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z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plasarea 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în spaţiu a bunurilor şi a persoanelor cu ajutorul mijloacelor de tracţiune (locomotivelor) şi a mijloacelor de tractare (vagoanele), care circulă pe trasee fixe de căi de transpor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cale ferata"/>
          <p:cNvPicPr/>
          <p:nvPr/>
        </p:nvPicPr>
        <p:blipFill>
          <a:blip r:embed="rId2"/>
          <a:stretch/>
        </p:blipFill>
        <p:spPr>
          <a:xfrm>
            <a:off x="3348000" y="4581360"/>
            <a:ext cx="2160720" cy="1675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tren"/>
          <p:cNvPicPr/>
          <p:nvPr/>
        </p:nvPicPr>
        <p:blipFill>
          <a:blip r:embed="rId3"/>
          <a:stretch/>
        </p:blipFill>
        <p:spPr>
          <a:xfrm>
            <a:off x="6084720" y="429264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Noile vagoane accelerate etajat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4441680"/>
            <a:ext cx="2665440" cy="20829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6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533520"/>
            <a:ext cx="78566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Verdana"/>
              </a:rPr>
              <a:t>Istoric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904760"/>
            <a:ext cx="81439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750 apar şinele din fi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804 prima locomotiva cu aburi făcută de americ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825- primul tren de persoa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în Angl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881-apare locomotiva cu abu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924-apare locomotiva Dies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854- primele linii în România Oraviţa- Bazia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locomotiva1"/>
          <p:cNvPicPr/>
          <p:nvPr/>
        </p:nvPicPr>
        <p:blipFill>
          <a:blip r:embed="rId2"/>
          <a:stretch/>
        </p:blipFill>
        <p:spPr>
          <a:xfrm>
            <a:off x="6588000" y="2924280"/>
            <a:ext cx="1851120" cy="1439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533520"/>
            <a:ext cx="76406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9999"/>
                </a:solidFill>
                <a:latin typeface="Verdana"/>
              </a:rPr>
              <a:t>Alcătuirea reţelei de transport ferovi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99640" y="1915920"/>
            <a:ext cx="77835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ale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Nodu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ermina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4" descr="nod1"/>
          <p:cNvPicPr/>
          <p:nvPr/>
        </p:nvPicPr>
        <p:blipFill>
          <a:blip r:embed="rId2"/>
          <a:stretch/>
        </p:blipFill>
        <p:spPr>
          <a:xfrm>
            <a:off x="3203640" y="2924280"/>
            <a:ext cx="2087640" cy="1655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sine"/>
          <p:cNvPicPr/>
          <p:nvPr/>
        </p:nvPicPr>
        <p:blipFill>
          <a:blip r:embed="rId3"/>
          <a:stretch/>
        </p:blipFill>
        <p:spPr>
          <a:xfrm>
            <a:off x="5508720" y="1773360"/>
            <a:ext cx="2219400" cy="166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425x31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08720" y="4005360"/>
            <a:ext cx="2448000" cy="1774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6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9999"/>
                </a:solidFill>
                <a:latin typeface="Verdana"/>
              </a:rPr>
              <a:t>Calea de transpor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640" y="1904760"/>
            <a:ext cx="77119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Calea ferată se poate clasifica după următoarele criteri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După numărul linii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a. sim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b. du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2. După ecarta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a. cu ecartament normal (1435m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b. cu ecartament larg (1524m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c. cu ecartament îngust (600-1000 m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3. După poziţia faţă de suprafaţa terenulu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a. linii de suprafaţ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b. linii subterane (metrou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c. linii supratera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0000">
    <p:fad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333399"/>
                </a:solidFill>
                <a:latin typeface="Verdana"/>
              </a:rPr>
              <a:t>Noduril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711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Gările sunt staţii în ca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opresc trenuri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riajele sunt staţii în care opresc trenurile pentru verificări tehnice ale instalaţiilor şi pentru formarea garniturilor de tren ca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merg spre diferite destinaţi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BRASOV - TRIAJ"/>
          <p:cNvPicPr/>
          <p:nvPr/>
        </p:nvPicPr>
        <p:blipFill>
          <a:blip r:embed="rId2"/>
          <a:stretch/>
        </p:blipFill>
        <p:spPr>
          <a:xfrm>
            <a:off x="6588000" y="4149720"/>
            <a:ext cx="2305080" cy="2036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Regionala Iasi - Suceava"/>
          <p:cNvPicPr/>
          <p:nvPr/>
        </p:nvPicPr>
        <p:blipFill>
          <a:blip r:embed="rId3"/>
          <a:stretch/>
        </p:blipFill>
        <p:spPr>
          <a:xfrm>
            <a:off x="4211640" y="1700280"/>
            <a:ext cx="1714320" cy="1257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gara"/>
          <p:cNvPicPr/>
          <p:nvPr/>
        </p:nvPicPr>
        <p:blipFill>
          <a:blip r:embed="rId4"/>
          <a:stretch/>
        </p:blipFill>
        <p:spPr>
          <a:xfrm>
            <a:off x="6227640" y="1341360"/>
            <a:ext cx="2705400" cy="1584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5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9999"/>
                </a:solidFill>
                <a:latin typeface="Verdana"/>
              </a:rPr>
              <a:t>Terminalel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1904760"/>
            <a:ext cx="78566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Se numesc şi gări termina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Gara terminal este locul de unde încep şi unde se termină căile fera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zoomGara%20de%20Nord%205"/>
          <p:cNvPicPr/>
          <p:nvPr/>
        </p:nvPicPr>
        <p:blipFill>
          <a:blip r:embed="rId2"/>
          <a:stretch/>
        </p:blipFill>
        <p:spPr>
          <a:xfrm>
            <a:off x="2195640" y="3716280"/>
            <a:ext cx="4681440" cy="2255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533520"/>
            <a:ext cx="78566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Verdana"/>
              </a:rPr>
              <a:t>Construcţii specia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04760"/>
            <a:ext cx="77835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Podur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unelu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pod1"/>
          <p:cNvPicPr/>
          <p:nvPr/>
        </p:nvPicPr>
        <p:blipFill>
          <a:blip r:embed="rId2"/>
          <a:stretch/>
        </p:blipFill>
        <p:spPr>
          <a:xfrm>
            <a:off x="2556000" y="1484280"/>
            <a:ext cx="2658960" cy="2127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tunel_10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28960" y="4071960"/>
            <a:ext cx="2592360" cy="1941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Un pod pe linia Oraviţa-Anina, lângă Oraviţa în Munţii Carpaţ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72080" y="1500120"/>
            <a:ext cx="2714760" cy="2041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7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6920" y="533520"/>
            <a:ext cx="74962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Verdana"/>
              </a:rPr>
              <a:t>Trenuri mod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78566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GV- 525km pe or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Monora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renuri suspen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5" descr="1981-TGV"/>
          <p:cNvPicPr/>
          <p:nvPr/>
        </p:nvPicPr>
        <p:blipFill>
          <a:blip r:embed="rId2"/>
          <a:stretch/>
        </p:blipFill>
        <p:spPr>
          <a:xfrm>
            <a:off x="5508720" y="1989000"/>
            <a:ext cx="2305080" cy="151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120px-Okinawa_City_Monorail"/>
          <p:cNvPicPr/>
          <p:nvPr/>
        </p:nvPicPr>
        <p:blipFill>
          <a:blip r:embed="rId3"/>
          <a:stretch/>
        </p:blipFill>
        <p:spPr>
          <a:xfrm>
            <a:off x="2916360" y="3429000"/>
            <a:ext cx="2089080" cy="1800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4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07:00:07Z</dcterms:created>
  <dc:creator>Ildi</dc:creator>
  <dc:description/>
  <dc:language>en-US</dc:language>
  <cp:lastModifiedBy>Domo</cp:lastModifiedBy>
  <dcterms:modified xsi:type="dcterms:W3CDTF">2010-05-23T16:20:26Z</dcterms:modified>
  <cp:revision>13</cp:revision>
  <dc:subject/>
  <dc:title>TRANSPORTUL FEROVI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21048</vt:lpwstr>
  </property>
</Properties>
</file>