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13.jpeg" ContentType="image/jpeg"/>
  <Override PartName="/ppt/media/image4.png" ContentType="image/png"/>
  <Override PartName="/ppt/media/image1.png" ContentType="image/png"/>
  <Override PartName="/ppt/media/image2.png" ContentType="image/png"/>
  <Override PartName="/ppt/media/image16.jpeg" ContentType="image/jpeg"/>
  <Override PartName="/ppt/media/chimes.wav" ContentType="audio/x-wav"/>
  <Override PartName="/ppt/media/image9.jpeg" ContentType="image/jpeg"/>
  <Override PartName="/ppt/media/image11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63DB-B26B-4C1F-A4F1-F3D9D67F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C6B7-91C2-4C16-A147-79A63FB4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3D59-81AE-4DD7-BF70-D2271A12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478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14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42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478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14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8FAF-A55B-4075-9A99-DC8BB26BC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0556-FC8C-489C-879E-2C8144374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87C5-B322-4C59-96CA-C0F42F7A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3473-3C8A-42CA-AAA6-7B402873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1BDF-D892-40B6-BC9F-A67E40F6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6D1E-DE0E-407C-AFE9-D93E009A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4200" y="533520"/>
            <a:ext cx="63990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BBCC-918A-4498-9E78-B10C8FB1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4D9A-EFC4-4CDA-9256-DFC76B4B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E85A-3734-4AE9-87C4-252C4ABE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02DB-4261-42CC-839D-C1A657E3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4531-A022-42A2-BA76-3B3811DC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CDFD-975D-474A-B20B-20CBE14F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0A07-56BD-42DB-B29E-34E24CFD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478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14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42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478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114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6F23-8943-48EC-BC58-628803C4A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92AC-8BA8-493A-989D-60A3079F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613A-1B7D-44BA-B807-81861075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78D9-B88E-47DC-A383-277B805D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4200" y="533520"/>
            <a:ext cx="63990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FDC5-5B3C-46FF-A183-1315B27E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D4D3-E494-48D9-ADA1-B23A6842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7EBF-64DD-4EDC-B768-74B74C43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426F-E8A1-4270-98E7-FDFA011B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3187-3A79-4AF4-88EA-B6B6251B9D81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2167-4946-42FE-AB65-B2DC494D8F88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ro.wikipedia.org/wiki/Imagine:CFR_etajat_acc.jpg" TargetMode="External"/><Relationship Id="rId5" Type="http://schemas.openxmlformats.org/officeDocument/2006/relationships/image" Target="../media/image5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hyperlink" Target="http://ms.info.uaic.ro/photos/alexm/images/1612/425x319.aspx" TargetMode="External"/><Relationship Id="rId5" Type="http://schemas.openxmlformats.org/officeDocument/2006/relationships/image" Target="../media/image9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hyperlink" Target="http://images.google.ro/imgres?imgurl=http://www.madrid.org/metro/imagenes/estaciones/aeropuerto/tunel_1024.jpg&amp;imgrefurl=http://www.madrid.org/metro/estaciones/info_aeropuerto.html&amp;h=768&amp;w=1024&amp;sz=67&amp;hl=ro&amp;start=1&amp;um=1&amp;tbnid=e961r5_Nu83pcM:&amp;tbnh=113&amp;tbnw=150&amp;prev=/images%3Fq%3Dtunel%2B%26svnum%3D10%26um%3D1%26hl%3Dro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ro.wikipedia.org/wiki/Imagine:Viaduct_Oravita_Anina.jpg" TargetMode="External"/><Relationship Id="rId6" Type="http://schemas.openxmlformats.org/officeDocument/2006/relationships/image" Target="../media/image16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00120" y="1928880"/>
            <a:ext cx="639936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Verdana"/>
              </a:rPr>
              <a:t>Rețele  și mijloace de transport feroviar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28440" y="5071680"/>
            <a:ext cx="63990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Proiect realizat de elevii clasei a VII-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Școala cu clasele I- VIII Boi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Grupa:I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03280" y="9806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RANSPORTUL FEROVI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99640" y="2060640"/>
            <a:ext cx="7201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. Transportul feroviar efectuea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z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plasarea 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în spaţiu a bunurilor şi a persoanelor cu ajutorul mijloacelor de tracţiune (locomotivelor) şi a mijloacelor de tractare (vagoanele), care circulă pe trasee fixe de căi de transpor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cale ferata"/>
          <p:cNvPicPr/>
          <p:nvPr/>
        </p:nvPicPr>
        <p:blipFill>
          <a:blip r:embed="rId2"/>
          <a:stretch/>
        </p:blipFill>
        <p:spPr>
          <a:xfrm>
            <a:off x="3348000" y="4581360"/>
            <a:ext cx="2160720" cy="1675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tren"/>
          <p:cNvPicPr/>
          <p:nvPr/>
        </p:nvPicPr>
        <p:blipFill>
          <a:blip r:embed="rId3"/>
          <a:stretch/>
        </p:blipFill>
        <p:spPr>
          <a:xfrm>
            <a:off x="6084720" y="4292640"/>
            <a:ext cx="2857680" cy="2286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Noile vagoane accelerate etajat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4441680"/>
            <a:ext cx="2665440" cy="20829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6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533520"/>
            <a:ext cx="78566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Verdana"/>
              </a:rPr>
              <a:t>Istoric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904760"/>
            <a:ext cx="81439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1750 apar şinele din fi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1804 prima locomotiva cu aburi făcută de americ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1825- primul tren de persoa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în Angl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1881-apare locomotiva cu abu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1924-apare locomotiva Dies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1854- primele linii în România Oraviţa- Bazia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5" descr="locomotiva1"/>
          <p:cNvPicPr/>
          <p:nvPr/>
        </p:nvPicPr>
        <p:blipFill>
          <a:blip r:embed="rId2"/>
          <a:stretch/>
        </p:blipFill>
        <p:spPr>
          <a:xfrm>
            <a:off x="6588000" y="2924280"/>
            <a:ext cx="1851120" cy="1439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920" y="533520"/>
            <a:ext cx="76406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9999"/>
                </a:solidFill>
                <a:latin typeface="Verdana"/>
              </a:rPr>
              <a:t>Alcătuirea reţelei de transport ferovi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99640" y="1915920"/>
            <a:ext cx="778356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ale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Nodu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Termina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4" descr="nod1"/>
          <p:cNvPicPr/>
          <p:nvPr/>
        </p:nvPicPr>
        <p:blipFill>
          <a:blip r:embed="rId2"/>
          <a:stretch/>
        </p:blipFill>
        <p:spPr>
          <a:xfrm>
            <a:off x="3203640" y="2924280"/>
            <a:ext cx="2087640" cy="1655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sine"/>
          <p:cNvPicPr/>
          <p:nvPr/>
        </p:nvPicPr>
        <p:blipFill>
          <a:blip r:embed="rId3"/>
          <a:stretch/>
        </p:blipFill>
        <p:spPr>
          <a:xfrm>
            <a:off x="5508720" y="1773360"/>
            <a:ext cx="2219400" cy="1665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425x31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08720" y="4005360"/>
            <a:ext cx="2448000" cy="17748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6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9999"/>
                </a:solidFill>
                <a:latin typeface="Verdana"/>
              </a:rPr>
              <a:t>Calea de transpor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640" y="1904760"/>
            <a:ext cx="77119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Calea ferată se poate clasifica după următoarele criteri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După numărul liniil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a. simp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b. du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2. După ecarta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a. cu ecartament normal (1435m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b. cu ecartament larg (1524m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c. cu ecartament îngust (600-1000 m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3. După poziţia faţă de suprafaţa terenulu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a. linii de suprafaţ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b. linii subterane (metrou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c. linii supratera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0000">
    <p:fade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333399"/>
                </a:solidFill>
                <a:latin typeface="Verdana"/>
              </a:rPr>
              <a:t>Noduril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77119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Gările sunt staţii în ca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opresc trenuri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Triajele sunt staţii în care opresc trenurile pentru verificări tehnice ale instalaţiilor şi pentru formarea garniturilor de tren ca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merg spre diferite destinaţii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5" descr="BRASOV - TRIAJ"/>
          <p:cNvPicPr/>
          <p:nvPr/>
        </p:nvPicPr>
        <p:blipFill>
          <a:blip r:embed="rId2"/>
          <a:stretch/>
        </p:blipFill>
        <p:spPr>
          <a:xfrm>
            <a:off x="6588000" y="4149720"/>
            <a:ext cx="2305080" cy="2036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Regionala Iasi - Suceava"/>
          <p:cNvPicPr/>
          <p:nvPr/>
        </p:nvPicPr>
        <p:blipFill>
          <a:blip r:embed="rId3"/>
          <a:stretch/>
        </p:blipFill>
        <p:spPr>
          <a:xfrm>
            <a:off x="4211640" y="1700280"/>
            <a:ext cx="1714320" cy="1257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gara"/>
          <p:cNvPicPr/>
          <p:nvPr/>
        </p:nvPicPr>
        <p:blipFill>
          <a:blip r:embed="rId4"/>
          <a:stretch/>
        </p:blipFill>
        <p:spPr>
          <a:xfrm>
            <a:off x="6227640" y="1341360"/>
            <a:ext cx="2705400" cy="1584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5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9999"/>
                </a:solidFill>
                <a:latin typeface="Verdana"/>
              </a:rPr>
              <a:t>Terminalel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1904760"/>
            <a:ext cx="785664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Se numesc şi gări termina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Gara terminal este locul de unde încep şi unde se termină căile fera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5" descr="zoomGara%20de%20Nord%205"/>
          <p:cNvPicPr/>
          <p:nvPr/>
        </p:nvPicPr>
        <p:blipFill>
          <a:blip r:embed="rId2"/>
          <a:stretch/>
        </p:blipFill>
        <p:spPr>
          <a:xfrm>
            <a:off x="2195640" y="3716280"/>
            <a:ext cx="4681440" cy="2255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533520"/>
            <a:ext cx="78566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Verdana"/>
              </a:rPr>
              <a:t>Construcţii specia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04760"/>
            <a:ext cx="778356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Poduri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Tunelu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pod1"/>
          <p:cNvPicPr/>
          <p:nvPr/>
        </p:nvPicPr>
        <p:blipFill>
          <a:blip r:embed="rId2"/>
          <a:stretch/>
        </p:blipFill>
        <p:spPr>
          <a:xfrm>
            <a:off x="2556000" y="1484280"/>
            <a:ext cx="2658960" cy="2127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tunel_10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28960" y="4071960"/>
            <a:ext cx="2592360" cy="1941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Un pod pe linia Oraviţa-Anina, lângă Oraviţa în Munţii Carpaţ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72080" y="1500120"/>
            <a:ext cx="2714760" cy="2041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7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6920" y="533520"/>
            <a:ext cx="749628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Verdana"/>
              </a:rPr>
              <a:t>Trenuri mod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785664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TGV- 525km pe or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Monora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Trenuri suspend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5" descr="1981-TGV"/>
          <p:cNvPicPr/>
          <p:nvPr/>
        </p:nvPicPr>
        <p:blipFill>
          <a:blip r:embed="rId2"/>
          <a:stretch/>
        </p:blipFill>
        <p:spPr>
          <a:xfrm>
            <a:off x="5508720" y="1989000"/>
            <a:ext cx="2305080" cy="151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120px-Okinawa_City_Monorail"/>
          <p:cNvPicPr/>
          <p:nvPr/>
        </p:nvPicPr>
        <p:blipFill>
          <a:blip r:embed="rId3"/>
          <a:stretch/>
        </p:blipFill>
        <p:spPr>
          <a:xfrm>
            <a:off x="2916360" y="3429000"/>
            <a:ext cx="2089080" cy="1800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4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07:00:07Z</dcterms:created>
  <dc:creator>Ildi</dc:creator>
  <dc:description/>
  <dc:language>en-US</dc:language>
  <cp:lastModifiedBy>Domo</cp:lastModifiedBy>
  <dcterms:modified xsi:type="dcterms:W3CDTF">2010-05-23T16:20:26Z</dcterms:modified>
  <cp:revision>13</cp:revision>
  <dc:subject/>
  <dc:title>TRANSPORTUL FEROVIA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21048</vt:lpwstr>
  </property>
</Properties>
</file>