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2.png" ContentType="image/png"/>
  <Override PartName="/ppt/media/image16.jpeg" ContentType="image/jpeg"/>
  <Override PartName="/ppt/media/chimes.wav" ContentType="audio/x-wav"/>
  <Override PartName="/ppt/media/image9.jpeg" ContentType="image/jpeg"/>
  <Override PartName="/ppt/media/image11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7A0-2CAE-41DF-94E3-9A1EA79E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0492-19BE-4ABA-851D-61AD0AA3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4407-8C52-4135-A1E0-E87598F5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2069-310E-4060-9895-8D2A3C2B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0643-80C5-4AC0-9AEE-C7C86A49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1C50-AC31-47E0-AC31-6AC50047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1551-7345-4D2D-A848-FA35C0B1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92D8-A870-4A62-8BF2-3D0FEFEE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7760-AF40-4B3E-BF07-7B139CCF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1FB6-B316-4E53-9496-F6470644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3441-5701-4CC2-BAAB-8200C16F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2D91-96C9-4D4B-ADF0-7DF69FC6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0F61-B3AE-4F19-B869-6054FC6D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48D9-1728-4FA7-A6AE-4C4BF621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7495-D8DB-4B57-8A81-8C889347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345A-4D4F-44AD-BF3C-55AB2F33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4F7F-6998-4575-852F-E27D1113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3DD7-E66F-4C9F-BF16-9A5D17CA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14CC-C489-42E0-B612-A9E89A8E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965F-C0DF-403C-9F8C-6D6C46DB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F103-8420-4595-99FB-5E0E7745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F09B-702E-4B0C-A661-11944E49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649C-DF6A-4430-BDFC-98699093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FD76-FA81-4C44-8E6B-DFA10736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1E13-D15C-4F7B-9E47-C2979B4841BD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BB8E-341C-4E7A-8966-143EF35251C9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ro.wikipedia.org/wiki/Imagine:CFR_etajat_acc.jpg" TargetMode="External"/><Relationship Id="rId5" Type="http://schemas.openxmlformats.org/officeDocument/2006/relationships/image" Target="../media/image5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ms.info.uaic.ro/photos/alexm/images/1612/425x319.aspx" TargetMode="External"/><Relationship Id="rId5" Type="http://schemas.openxmlformats.org/officeDocument/2006/relationships/image" Target="../media/image9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hyperlink" Target="http://images.google.ro/imgres?imgurl=http://www.madrid.org/metro/imagenes/estaciones/aeropuerto/tunel_1024.jpg&amp;imgrefurl=http://www.madrid.org/metro/estaciones/info_aeropuerto.html&amp;h=768&amp;w=1024&amp;sz=67&amp;hl=ro&amp;start=1&amp;um=1&amp;tbnid=e961r5_Nu83pcM:&amp;tbnh=113&amp;tbnw=150&amp;prev=/images%3Fq%3Dtunel%2B%26svnum%3D10%26um%3D1%26hl%3Dro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ro.wikipedia.org/wiki/Imagine:Viaduct_Oravita_Anina.jpg" TargetMode="External"/><Relationship Id="rId6" Type="http://schemas.openxmlformats.org/officeDocument/2006/relationships/image" Target="../media/image16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00120" y="1928880"/>
            <a:ext cx="63993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Verdana"/>
              </a:rPr>
              <a:t>Rețele  și mijloace de transport ferovia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28440" y="5071680"/>
            <a:ext cx="63990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Proiect realizat de elevii clasei a VII-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Școala cu clasele I- VIII Boi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Grupa:I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3280" y="980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NSPORTUL FEROVI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99640" y="2060640"/>
            <a:ext cx="7201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. Transportul feroviar efectuea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z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plasarea 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în spaţiu a bunurilor şi a persoanelor cu ajutorul mijloacelor de tracţiune (locomotivelor) şi a mijloacelor de tractare (vagoanele), care circulă pe trasee fixe de căi de transpor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cale ferata"/>
          <p:cNvPicPr/>
          <p:nvPr/>
        </p:nvPicPr>
        <p:blipFill>
          <a:blip r:embed="rId2"/>
          <a:stretch/>
        </p:blipFill>
        <p:spPr>
          <a:xfrm>
            <a:off x="3348000" y="4581360"/>
            <a:ext cx="2160720" cy="167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tren"/>
          <p:cNvPicPr/>
          <p:nvPr/>
        </p:nvPicPr>
        <p:blipFill>
          <a:blip r:embed="rId3"/>
          <a:stretch/>
        </p:blipFill>
        <p:spPr>
          <a:xfrm>
            <a:off x="6084720" y="429264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Noile vagoane accelerate etajat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4441680"/>
            <a:ext cx="2665440" cy="2082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6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533520"/>
            <a:ext cx="78566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Verdana"/>
              </a:rPr>
              <a:t>Istoric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904760"/>
            <a:ext cx="81439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750 apar şinele din fi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804 prima locomotiva cu aburi făcută de americ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825- primul tren de persoa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în Angl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881-apare locomotiva cu abu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924-apare locomotiva Dies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1854- primele linii în România Oraviţa- Bazia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locomotiva1"/>
          <p:cNvPicPr/>
          <p:nvPr/>
        </p:nvPicPr>
        <p:blipFill>
          <a:blip r:embed="rId2"/>
          <a:stretch/>
        </p:blipFill>
        <p:spPr>
          <a:xfrm>
            <a:off x="6588000" y="2924280"/>
            <a:ext cx="1851120" cy="1439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533520"/>
            <a:ext cx="76406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9999"/>
                </a:solidFill>
                <a:latin typeface="Verdana"/>
              </a:rPr>
              <a:t>Alcătuirea reţelei de transport ferovi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9640" y="1915920"/>
            <a:ext cx="77835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al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Nodu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ermina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4" descr="nod1"/>
          <p:cNvPicPr/>
          <p:nvPr/>
        </p:nvPicPr>
        <p:blipFill>
          <a:blip r:embed="rId2"/>
          <a:stretch/>
        </p:blipFill>
        <p:spPr>
          <a:xfrm>
            <a:off x="3203640" y="2924280"/>
            <a:ext cx="2087640" cy="165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sine"/>
          <p:cNvPicPr/>
          <p:nvPr/>
        </p:nvPicPr>
        <p:blipFill>
          <a:blip r:embed="rId3"/>
          <a:stretch/>
        </p:blipFill>
        <p:spPr>
          <a:xfrm>
            <a:off x="5508720" y="1773360"/>
            <a:ext cx="2219400" cy="166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425x31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8720" y="4005360"/>
            <a:ext cx="2448000" cy="1774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6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9999"/>
                </a:solidFill>
                <a:latin typeface="Verdana"/>
              </a:rPr>
              <a:t>Calea de transpo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640" y="1904760"/>
            <a:ext cx="77119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alea ferată se poate clasifica după următoarele criteri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După numărul linii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. sim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b. du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2. După ecart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. cu ecartament normal (1435m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b. cu ecartament larg (1524m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. cu ecartament îngust (600-1000 m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3. După poziţia faţă de suprafaţa terenulu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. linii de suprafaţ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b. linii subterane (metrou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. linii supratera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0000">
    <p:fad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333399"/>
                </a:solidFill>
                <a:latin typeface="Verdana"/>
              </a:rPr>
              <a:t>Noduril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711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Gările sunt staţii în ca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opresc trenuri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riajele sunt staţii în care opresc trenurile pentru verificări tehnice ale instalaţiilor şi pentru formarea garniturilor de tren ca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merg spre diferite destinaţi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BRASOV - TRIAJ"/>
          <p:cNvPicPr/>
          <p:nvPr/>
        </p:nvPicPr>
        <p:blipFill>
          <a:blip r:embed="rId2"/>
          <a:stretch/>
        </p:blipFill>
        <p:spPr>
          <a:xfrm>
            <a:off x="6588000" y="4149720"/>
            <a:ext cx="2305080" cy="2036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Regionala Iasi - Suceava"/>
          <p:cNvPicPr/>
          <p:nvPr/>
        </p:nvPicPr>
        <p:blipFill>
          <a:blip r:embed="rId3"/>
          <a:stretch/>
        </p:blipFill>
        <p:spPr>
          <a:xfrm>
            <a:off x="4211640" y="1700280"/>
            <a:ext cx="1714320" cy="1257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gara"/>
          <p:cNvPicPr/>
          <p:nvPr/>
        </p:nvPicPr>
        <p:blipFill>
          <a:blip r:embed="rId4"/>
          <a:stretch/>
        </p:blipFill>
        <p:spPr>
          <a:xfrm>
            <a:off x="6227640" y="1341360"/>
            <a:ext cx="2705400" cy="1584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5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9999"/>
                </a:solidFill>
                <a:latin typeface="Verdana"/>
              </a:rPr>
              <a:t>Terminalel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904760"/>
            <a:ext cx="78566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Se numesc şi gări termina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Gara terminal este locul de unde încep şi unde se termină căile fer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zoomGara%20de%20Nord%205"/>
          <p:cNvPicPr/>
          <p:nvPr/>
        </p:nvPicPr>
        <p:blipFill>
          <a:blip r:embed="rId2"/>
          <a:stretch/>
        </p:blipFill>
        <p:spPr>
          <a:xfrm>
            <a:off x="2195640" y="3716280"/>
            <a:ext cx="4681440" cy="2255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533520"/>
            <a:ext cx="78566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Verdana"/>
              </a:rPr>
              <a:t>Construcţii specia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04760"/>
            <a:ext cx="77835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Podur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unelu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pod1"/>
          <p:cNvPicPr/>
          <p:nvPr/>
        </p:nvPicPr>
        <p:blipFill>
          <a:blip r:embed="rId2"/>
          <a:stretch/>
        </p:blipFill>
        <p:spPr>
          <a:xfrm>
            <a:off x="2556000" y="1484280"/>
            <a:ext cx="2658960" cy="2127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tunel_10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28960" y="4071960"/>
            <a:ext cx="2592360" cy="1941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Un pod pe linia Oraviţa-Anina, lângă Oraviţa în Munţii Carpaţ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72080" y="1500120"/>
            <a:ext cx="2714760" cy="2041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7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6920" y="533520"/>
            <a:ext cx="74962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Verdana"/>
              </a:rPr>
              <a:t>Trenuri mod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8566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GV- 525km pe or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Monora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renuri suspen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5" descr="1981-TGV"/>
          <p:cNvPicPr/>
          <p:nvPr/>
        </p:nvPicPr>
        <p:blipFill>
          <a:blip r:embed="rId2"/>
          <a:stretch/>
        </p:blipFill>
        <p:spPr>
          <a:xfrm>
            <a:off x="5508720" y="1989000"/>
            <a:ext cx="2305080" cy="151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120px-Okinawa_City_Monorail"/>
          <p:cNvPicPr/>
          <p:nvPr/>
        </p:nvPicPr>
        <p:blipFill>
          <a:blip r:embed="rId3"/>
          <a:stretch/>
        </p:blipFill>
        <p:spPr>
          <a:xfrm>
            <a:off x="2916360" y="3429000"/>
            <a:ext cx="2089080" cy="1800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07:00:07Z</dcterms:created>
  <dc:creator>Ildi</dc:creator>
  <dc:description/>
  <dc:language>en-US</dc:language>
  <cp:lastModifiedBy>Domo</cp:lastModifiedBy>
  <dcterms:modified xsi:type="dcterms:W3CDTF">2010-05-23T16:20:26Z</dcterms:modified>
  <cp:revision>13</cp:revision>
  <dc:subject/>
  <dc:title>TRANSPORTUL FEROVI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21048</vt:lpwstr>
  </property>
</Properties>
</file>