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257-3EB8-4ABC-81A6-B09B8864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36F-D5C2-4793-9EFC-290C1E1F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CCD-4169-4780-B6E2-EF300B53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725-970B-462D-A4AC-F4329A51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9302-11CC-4094-AB6A-951FC9A7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FD82-4B59-4C71-A30F-63E8D69D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F476-19FD-43D8-B1B3-B3F03CC1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BC02-2108-4290-8E20-546D823F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2EEC-C42F-4319-871E-5B7DE2F3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9EE2-94D2-4ABA-A2E2-05E26BD1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3F7B-1DF0-44D5-AC4B-0889FC60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72A-E3B1-43C0-8B30-EDB5DF3B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9DC9-1586-426F-B6BD-1096F02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34A7-12F8-4F31-9F44-A839B0D8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5319-9F06-47FE-842B-E12BC088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B348-3496-4082-B262-9DD4E175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7834-5D49-423C-BDD9-2D391A64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CCA-E1A8-49B0-A7B7-29664606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22C-BAC1-4983-9AD7-B727A3BE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481-B3CD-4B12-9DA9-BC4555C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193-7243-4C73-9551-8E25FCA6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0A7-F2A8-45EB-AD36-4B13DBEE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194-185E-4ED7-B931-4D8C1FD3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51C-E49E-463B-8A8E-CF2948E2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005A-96AC-408C-B09A-88DE676B3A02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E6BC-3F07-48EC-936E-560554EAD3F2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ro.wikipedia.org/wiki/Imagine:CFR_etajat_acc.jpg" TargetMode="External"/><Relationship Id="rId5" Type="http://schemas.openxmlformats.org/officeDocument/2006/relationships/image" Target="../media/image5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ms.info.uaic.ro/photos/alexm/images/1612/425x319.aspx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http://images.google.ro/imgres?imgurl=http://www.madrid.org/metro/imagenes/estaciones/aeropuerto/tunel_1024.jpg&amp;imgrefurl=http://www.madrid.org/metro/estaciones/info_aeropuerto.html&amp;h=768&amp;w=1024&amp;sz=67&amp;hl=ro&amp;start=1&amp;um=1&amp;tbnid=e961r5_Nu83pcM:&amp;tbnh=113&amp;tbnw=150&amp;prev=/images%3Fq%3Dtunel%2B%26svnum%3D10%26um%3D1%26hl%3Dro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ro.wikipedia.org/wiki/Imagine:Viaduct_Oravita_Anina.jpg" TargetMode="External"/><Relationship Id="rId6" Type="http://schemas.openxmlformats.org/officeDocument/2006/relationships/image" Target="../media/image1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00120" y="1928880"/>
            <a:ext cx="6399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Verdana"/>
              </a:rPr>
              <a:t>Rețele  și mijloace de transport ferovi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440" y="5071680"/>
            <a:ext cx="63990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iect realizat de elevii clasei a VII-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Școala cu clasele I- VIII Boi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Grupa: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980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UL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20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Transportul feroviar efectuea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z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plasarea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în spaţiu a bunurilor şi a persoanelor cu ajutorul mijloacelor de tracţiune (locomotivelor) şi a mijloacelor de tractare (vagoanele), care circulă pe trasee fixe de căi de transp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cale ferata"/>
          <p:cNvPicPr/>
          <p:nvPr/>
        </p:nvPicPr>
        <p:blipFill>
          <a:blip r:embed="rId2"/>
          <a:stretch/>
        </p:blipFill>
        <p:spPr>
          <a:xfrm>
            <a:off x="3348000" y="4581360"/>
            <a:ext cx="2160720" cy="167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tren"/>
          <p:cNvPicPr/>
          <p:nvPr/>
        </p:nvPicPr>
        <p:blipFill>
          <a:blip r:embed="rId3"/>
          <a:stretch/>
        </p:blipFill>
        <p:spPr>
          <a:xfrm>
            <a:off x="6084720" y="429264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Noile vagoane accelerate etaja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4441680"/>
            <a:ext cx="2665440" cy="2082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Istoric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8143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750 apar şinele din 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04 prima locomotiva cu aburi făcută de americ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25- primul tren de persoa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 Angl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81-apare locomotiva cu ab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924-apare locomotiva Die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54- primele linii în România Oraviţa- Bazia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locomotiva1"/>
          <p:cNvPicPr/>
          <p:nvPr/>
        </p:nvPicPr>
        <p:blipFill>
          <a:blip r:embed="rId2"/>
          <a:stretch/>
        </p:blipFill>
        <p:spPr>
          <a:xfrm>
            <a:off x="6588000" y="2924280"/>
            <a:ext cx="1851120" cy="143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533520"/>
            <a:ext cx="7640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Alcătuirea reţelei de transport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l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Nod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in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nod1"/>
          <p:cNvPicPr/>
          <p:nvPr/>
        </p:nvPicPr>
        <p:blipFill>
          <a:blip r:embed="rId2"/>
          <a:stretch/>
        </p:blipFill>
        <p:spPr>
          <a:xfrm>
            <a:off x="3203640" y="292428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sine"/>
          <p:cNvPicPr/>
          <p:nvPr/>
        </p:nvPicPr>
        <p:blipFill>
          <a:blip r:embed="rId3"/>
          <a:stretch/>
        </p:blipFill>
        <p:spPr>
          <a:xfrm>
            <a:off x="5508720" y="1773360"/>
            <a:ext cx="2219400" cy="166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425x3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4005360"/>
            <a:ext cx="2448000" cy="177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Calea de trans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904760"/>
            <a:ext cx="7711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alea ferată se poate clasifica după următoarele criteri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După numărul linii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si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du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2. După ecart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cu ecartament normal (1435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cu ecartament larg (1524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cu ecartament îngust (600-1000 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3. După poziţia faţă de suprafaţa terenu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linii de suprafaţ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linii subterane (metr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linii suprate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0000">
    <p:fad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Verdana"/>
              </a:rPr>
              <a:t>Noduri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11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ările sunt staţii î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opresc trenuri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iajele sunt staţii în care opresc trenurile pentru verificări tehnice ale instalaţiilor şi pentru formarea garniturilor de tre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erg spre diferite destinaţi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BRASOV - TRIAJ"/>
          <p:cNvPicPr/>
          <p:nvPr/>
        </p:nvPicPr>
        <p:blipFill>
          <a:blip r:embed="rId2"/>
          <a:stretch/>
        </p:blipFill>
        <p:spPr>
          <a:xfrm>
            <a:off x="6588000" y="4149720"/>
            <a:ext cx="2305080" cy="203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Regionala Iasi - Suceava"/>
          <p:cNvPicPr/>
          <p:nvPr/>
        </p:nvPicPr>
        <p:blipFill>
          <a:blip r:embed="rId3"/>
          <a:stretch/>
        </p:blipFill>
        <p:spPr>
          <a:xfrm>
            <a:off x="4211640" y="170028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gara"/>
          <p:cNvPicPr/>
          <p:nvPr/>
        </p:nvPicPr>
        <p:blipFill>
          <a:blip r:embed="rId4"/>
          <a:stretch/>
        </p:blipFill>
        <p:spPr>
          <a:xfrm>
            <a:off x="6227640" y="1341360"/>
            <a:ext cx="2705400" cy="158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5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Terminalel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Se numesc şi gări termina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ara terminal este locul de unde încep şi unde se termină căile fe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zoomGara%20de%20Nord%205"/>
          <p:cNvPicPr/>
          <p:nvPr/>
        </p:nvPicPr>
        <p:blipFill>
          <a:blip r:embed="rId2"/>
          <a:stretch/>
        </p:blipFill>
        <p:spPr>
          <a:xfrm>
            <a:off x="2195640" y="3716280"/>
            <a:ext cx="4681440" cy="2255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Construcţii speci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0476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Podur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unel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pod1"/>
          <p:cNvPicPr/>
          <p:nvPr/>
        </p:nvPicPr>
        <p:blipFill>
          <a:blip r:embed="rId2"/>
          <a:stretch/>
        </p:blipFill>
        <p:spPr>
          <a:xfrm>
            <a:off x="2556000" y="1484280"/>
            <a:ext cx="2658960" cy="212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tunel_10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28960" y="4071960"/>
            <a:ext cx="259236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Un pod pe linia Oraviţa-Anina, lângă Oraviţa în Munţii Carpaţ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72080" y="1500120"/>
            <a:ext cx="2714760" cy="2041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533520"/>
            <a:ext cx="74962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Trenuri mod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GV- 525km pe or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ono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enuri suspen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1981-TGV"/>
          <p:cNvPicPr/>
          <p:nvPr/>
        </p:nvPicPr>
        <p:blipFill>
          <a:blip r:embed="rId2"/>
          <a:stretch/>
        </p:blipFill>
        <p:spPr>
          <a:xfrm>
            <a:off x="5508720" y="1989000"/>
            <a:ext cx="2305080" cy="151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20px-Okinawa_City_Monorail"/>
          <p:cNvPicPr/>
          <p:nvPr/>
        </p:nvPicPr>
        <p:blipFill>
          <a:blip r:embed="rId3"/>
          <a:stretch/>
        </p:blipFill>
        <p:spPr>
          <a:xfrm>
            <a:off x="2916360" y="3429000"/>
            <a:ext cx="208908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7:00:07Z</dcterms:created>
  <dc:creator>Ildi</dc:creator>
  <dc:description/>
  <dc:language>en-US</dc:language>
  <cp:lastModifiedBy>Domo</cp:lastModifiedBy>
  <dcterms:modified xsi:type="dcterms:W3CDTF">2010-05-23T16:20:26Z</dcterms:modified>
  <cp:revision>13</cp:revision>
  <dc:subject/>
  <dc:title>TRANSPORTUL FEROVI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8</vt:lpwstr>
  </property>
</Properties>
</file>