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up2speed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6BE-E09C-494D-A3ED-B39200FC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DA4-4CA9-4728-BD5C-4462955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704-818F-4B73-99D3-BBF10435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A96-E1C2-4637-B547-33495B60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E876-3421-49EB-9797-324E206E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CB13-3C45-472C-BC8D-DC530D0D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EB4-124A-4982-9E9C-91870785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305E-DC80-40C3-823D-5C7F3716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E6C0-E6C5-4707-BC72-5BBF3C7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107D-4C46-4262-BB2E-CB9B46E1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1319-94C8-40FF-9EF9-8B1281B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4B6-9842-48B8-A95D-A6D48CC0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2AEC-997F-4B6B-B47B-B8CACDD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D2AB-FAEA-41F8-8F26-2D1231E5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29BA-470F-419F-A12D-58BEBD26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4599-FD55-4C71-AEB0-5534CD08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C6C6-3DC3-43E1-AC93-2CD8B085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225-972C-4B9F-97E4-17A5429F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407-56B5-4F11-9618-DEF6A6D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AF6-593C-4B8F-893B-5CB88094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35F-B01F-490B-AC58-86FE45F4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FAC-2A69-4194-BAB6-E7AA8BE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1E1-0C55-4095-88D8-61061B3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82D-86E9-4805-BBB2-93B917C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7B86-99FB-4DD1-8328-918CFC29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3EC5-CAFD-4C0F-92F8-10A026483A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jpe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up2speed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up2speed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5000"/>
                </a:solidFill>
                <a:latin typeface="Arial"/>
              </a:rPr>
              <a:t>REȚELE ȘI MIJLOACE DE TRANSPORT RUTIERE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 rot="20821200">
            <a:off x="592200" y="2703240"/>
            <a:ext cx="2530440" cy="149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 rot="1464600">
            <a:off x="6055920" y="265104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50px-Bucharest_Citaro_bus_3"/>
          <p:cNvPicPr/>
          <p:nvPr/>
        </p:nvPicPr>
        <p:blipFill>
          <a:blip r:embed="rId4"/>
          <a:stretch/>
        </p:blipFill>
        <p:spPr>
          <a:xfrm>
            <a:off x="3429000" y="3962520"/>
            <a:ext cx="261000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33520" y="59436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oiect realizat de elevii clasei  a VII-a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Școala cu clasele I- VIII Bo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Grupa :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5" name="up2spee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are sunt factorii de poluare determinați de transportur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incipala sursă de poluare în marile orașe ale globului o reprezintă transporturile rut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estea elimină în atmosferă cantități mari de fum și gaze de eșapament provenite din arderea combustibililor folosiți de autovehi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anotimpul rece , din cauza cantităților mari de pulberi se formează tipul de ceață numită „smo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Măsuri de protecția mediului în cazul transporturilo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lăturarea emisiilor poluante din arderea combustibili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una funcționare și întreținere a autovehicule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Găsirea de noi surse de energie nepolu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eocuparea constructorilor de mașini pentru găsirea materialelor care se pot recic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um au ajutat transporturile pentru progresul societăți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rile reprezintă o activitate de mare importanță în dezvoltarea economică a țării, asigurând legătura între toate ramurile industriale, între diferite zone ale țării și cu alte țări ale lum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DEFINIR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Transportul rutier asigură deplasarea mărfurilor şi a persoanelor cu ajutorul autovehiculelor şi a mijloacelor tractate pe distanţe relativ scu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 rot="1243200">
            <a:off x="6324120" y="1371240"/>
            <a:ext cx="2246400" cy="168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 rot="1948200">
            <a:off x="4723920" y="3809520"/>
            <a:ext cx="2381400" cy="179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5" name="up2spee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5000"/>
                </a:solidFill>
                <a:latin typeface="Arial"/>
              </a:rPr>
              <a:t>Care este structura rețelei de transport rutier?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Că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Nod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Termin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rum"/>
          <p:cNvPicPr/>
          <p:nvPr/>
        </p:nvPicPr>
        <p:blipFill>
          <a:blip r:embed="rId2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osele1"/>
          <p:cNvPicPr/>
          <p:nvPr/>
        </p:nvPicPr>
        <p:blipFill>
          <a:blip r:embed="rId3"/>
          <a:stretch/>
        </p:blipFill>
        <p:spPr>
          <a:xfrm>
            <a:off x="3581280" y="1752480"/>
            <a:ext cx="2067120" cy="118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utostrada"/>
          <p:cNvPicPr/>
          <p:nvPr/>
        </p:nvPicPr>
        <p:blipFill>
          <a:blip r:embed="rId4"/>
          <a:stretch/>
        </p:blipFill>
        <p:spPr>
          <a:xfrm>
            <a:off x="5867280" y="144792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utogara"/>
          <p:cNvPicPr/>
          <p:nvPr/>
        </p:nvPicPr>
        <p:blipFill>
          <a:blip r:embed="rId5"/>
          <a:stretch/>
        </p:blipFill>
        <p:spPr>
          <a:xfrm>
            <a:off x="5105520" y="4876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stati"/>
          <p:cNvPicPr/>
          <p:nvPr/>
        </p:nvPicPr>
        <p:blipFill>
          <a:blip r:embed="rId6"/>
          <a:stretch/>
        </p:blipFill>
        <p:spPr>
          <a:xfrm>
            <a:off x="2819520" y="31240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rum"/>
          <p:cNvPicPr/>
          <p:nvPr/>
        </p:nvPicPr>
        <p:blipFill>
          <a:blip r:embed="rId7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ăile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ef. </a:t>
            </a:r>
            <a:r>
              <a:rPr b="1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rumul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o porţiune de teren îngustă şi continuă, amenajată şi consolidată, destinată circulaţiei autovehiculelor de orice tip şi pietoni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210075179_c00a2ecab8_m"/>
          <p:cNvPicPr/>
          <p:nvPr/>
        </p:nvPicPr>
        <p:blipFill>
          <a:blip r:embed="rId2"/>
          <a:stretch/>
        </p:blipFill>
        <p:spPr>
          <a:xfrm>
            <a:off x="304920" y="3886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86900009_bad4adb2d3_m"/>
          <p:cNvPicPr/>
          <p:nvPr/>
        </p:nvPicPr>
        <p:blipFill>
          <a:blip r:embed="rId3"/>
          <a:stretch/>
        </p:blipFill>
        <p:spPr>
          <a:xfrm>
            <a:off x="6095880" y="373392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001a"/>
          <p:cNvPicPr/>
          <p:nvPr/>
        </p:nvPicPr>
        <p:blipFill>
          <a:blip r:embed="rId4"/>
          <a:stretch/>
        </p:blipFill>
        <p:spPr>
          <a:xfrm>
            <a:off x="2438280" y="38862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magine:PompeiiStreet.jpg"/>
          <p:cNvPicPr/>
          <p:nvPr/>
        </p:nvPicPr>
        <p:blipFill>
          <a:blip r:embed="rId5"/>
          <a:stretch/>
        </p:blipFill>
        <p:spPr>
          <a:xfrm>
            <a:off x="4267080" y="3886200"/>
            <a:ext cx="1621080" cy="21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6" name="up2spee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000"/>
                </a:solidFill>
                <a:latin typeface="Arial"/>
              </a:rPr>
              <a:t>Noduril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a este un loc amenaj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pecial unde pasagerii urc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au coboară din mijloacel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utogările sunt spaţii care cuprind terenuri de parcare şi clădiri în care se realizează activităţi de coordonar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lu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statie autobuz"/>
          <p:cNvPicPr/>
          <p:nvPr/>
        </p:nvPicPr>
        <p:blipFill>
          <a:blip r:embed="rId2"/>
          <a:stretch/>
        </p:blipFill>
        <p:spPr>
          <a:xfrm>
            <a:off x="6248520" y="7621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utogara"/>
          <p:cNvPicPr/>
          <p:nvPr/>
        </p:nvPicPr>
        <p:blipFill>
          <a:blip r:embed="rId3"/>
          <a:stretch/>
        </p:blipFill>
        <p:spPr>
          <a:xfrm>
            <a:off x="5867280" y="48006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4" name="up2spee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lasificarea mijloacele de transport rutie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cicle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cic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ehic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057400" cy="1358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6400800" y="3581280"/>
            <a:ext cx="220968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tretch/>
        </p:blipFill>
        <p:spPr>
          <a:xfrm>
            <a:off x="3809880" y="320040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7"/>
          <a:stretch/>
        </p:blipFill>
        <p:spPr>
          <a:xfrm>
            <a:off x="838080" y="4800600"/>
            <a:ext cx="2590920" cy="147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Automobilul IERI ŞI AZI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855-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Karl Benz realizeaza primul automobil cu motor cu ardere inter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870-Automobilele cu aburi începusera sǎ fie construite în America încǎ înainte de Rǎzboiul Ci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06 - Rolls Royc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54-MERCEDES 300 S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005 -a fost 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l mai frumos automobil din lume-ALFA 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228888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207648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981080" cy="1312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6"/>
          <a:stretch/>
        </p:blipFill>
        <p:spPr>
          <a:xfrm>
            <a:off x="3581280" y="3809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"/>
          <p:cNvPicPr/>
          <p:nvPr/>
        </p:nvPicPr>
        <p:blipFill>
          <a:blip r:embed="rId7"/>
          <a:stretch/>
        </p:blipFill>
        <p:spPr>
          <a:xfrm>
            <a:off x="5867280" y="4876920"/>
            <a:ext cx="2438640" cy="161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Evoluția tehnologiilor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bur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 fost inventat de către James Watt în 1780, transformă energia aburului în energie mecanic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rdere internă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către Otto Benz și Daimler, funcționează cu benzin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Diesel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Rudolf Diesel în 1892, combustibilul se aprinde singur atunci când este injectat în aerul comprimat fierbi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electric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ționează cu ajutorul curentului 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23T06:17:3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