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up2speed.wav" ContentType="audio/x-wav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F19-CA48-4D9E-9EF1-8CF2E51B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AFC-177F-48D8-A5D6-C45B70FF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D79-7EC4-4F99-BF86-79034EE8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AE93-C11E-47BF-89A6-B938DA97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F92C-B556-4A43-AE8C-4F137AC3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A3E2-DACE-450C-B25D-4EB367B1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02E9-88BF-402E-91B6-CB84E97B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2B11-BDFD-44FE-BF89-9BCD3AB5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D2BD-46B7-4A2C-99DB-DF2C9964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0123-443E-47F4-98AD-2AEAED78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44E3-3F4B-4E19-AED2-74006C5B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C50-96E3-4C3E-9CEE-89D03F0D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D51A-2E4A-4A64-9D06-1B6FE51F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3281-96E1-419B-B406-AD0240FD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F878-2FD8-4A67-8514-197FD969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9263-AE4E-4703-9CC1-4A45FB97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8A71-D849-49AE-A982-0B9BB930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964-D58B-4518-A5CF-BE52BC68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3B1-5576-43DB-AACB-97FD848E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C68D-C802-4130-9DE1-CC2EFCD6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5BB-3857-45CF-A9B6-6F7717A0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4D94-A0A5-471B-BF84-A3AE9983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345-0FA3-4F68-942C-466ADECF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515D-EA50-4775-A8CD-9E726881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94D2-5019-4D2B-AA2C-2B97D21A0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ea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563E-2DD3-4A49-A250-08B23F91C8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audio" Target="../media/up2speed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audio" Target="../media/up2speed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jpe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audio" Target="../media/up2speed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audio" Target="../media/up2speed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audio" Target="../media/up2speed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up2spee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5000"/>
                </a:solidFill>
                <a:latin typeface="Arial"/>
              </a:rPr>
              <a:t>REȚELE ȘI MIJLOACE DE TRANSPORT RUTIERE</a:t>
            </a:r>
            <a:endParaRPr b="0" lang="en-US" sz="4800" spc="-1" strike="noStrike">
              <a:solidFill>
                <a:srgbClr val="dceaae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 rot="20821200">
            <a:off x="592200" y="2703240"/>
            <a:ext cx="2530440" cy="149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 rot="1464600">
            <a:off x="6055920" y="2651040"/>
            <a:ext cx="2057400" cy="1357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50px-Bucharest_Citaro_bus_3"/>
          <p:cNvPicPr/>
          <p:nvPr/>
        </p:nvPicPr>
        <p:blipFill>
          <a:blip r:embed="rId4"/>
          <a:stretch/>
        </p:blipFill>
        <p:spPr>
          <a:xfrm>
            <a:off x="3429000" y="3962520"/>
            <a:ext cx="2610000" cy="1847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533520" y="594360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roiect realizat de elevii clasei  a VII-a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Școala cu clasele I- VIII Bo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Grupa :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5" name="up2spee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are sunt factorii de poluare determinați de transporturi?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1680" y="167616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incipala sursă de poluare în marile orașe ale globului o reprezintă transporturile rut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cestea elimină în atmosferă cantități mari de fum și gaze de eșapament provenite din arderea combustibililor folosiți de autovehi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 anotimpul rece , din cauza cantităților mari de pulberi se formează tipul de ceață numită „smo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Măsuri de protecția mediului în cazul transporturilor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9047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Înlăturarea emisiilor poluante din arderea combustibilil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una funcționare și întreținere a autovehiculel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Găsirea de noi surse de energie nepoluan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eocuparea constructorilor de mașini pentru găsirea materialelor care se pot recic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um au ajutat transporturile pentru progresul societății?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1680" y="2057040"/>
            <a:ext cx="854064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urile reprezintă o activitate de mare importanță în dezvoltarea economică a țării, asigurând legătura între toate ramurile industriale, între diferite zone ale țării și cu alte țări ale lum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DEFINIRE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Transportul rutier asigură deplasarea mărfurilor şi a persoanelor cu ajutorul autovehiculelor şi a mijloacelor tractate pe distanţe relativ scu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3962520" y="6858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 rot="1243200">
            <a:off x="6324120" y="1371240"/>
            <a:ext cx="2246400" cy="168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 rot="1948200">
            <a:off x="4723920" y="3809520"/>
            <a:ext cx="2381400" cy="1791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5" name="up2spee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5000"/>
                </a:solidFill>
                <a:latin typeface="Arial"/>
              </a:rPr>
              <a:t>Care este structura rețelei de transport rutier?</a:t>
            </a:r>
            <a:endParaRPr b="0" lang="en-US" sz="40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Că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Nodu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dceaae"/>
                </a:solidFill>
                <a:latin typeface="Arial"/>
              </a:rPr>
              <a:t>Termina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drum"/>
          <p:cNvPicPr/>
          <p:nvPr/>
        </p:nvPicPr>
        <p:blipFill>
          <a:blip r:embed="rId2"/>
          <a:stretch/>
        </p:blipFill>
        <p:spPr>
          <a:xfrm>
            <a:off x="1600200" y="160020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sosele1"/>
          <p:cNvPicPr/>
          <p:nvPr/>
        </p:nvPicPr>
        <p:blipFill>
          <a:blip r:embed="rId3"/>
          <a:stretch/>
        </p:blipFill>
        <p:spPr>
          <a:xfrm>
            <a:off x="3581280" y="1752480"/>
            <a:ext cx="2067120" cy="1181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utostrada"/>
          <p:cNvPicPr/>
          <p:nvPr/>
        </p:nvPicPr>
        <p:blipFill>
          <a:blip r:embed="rId4"/>
          <a:stretch/>
        </p:blipFill>
        <p:spPr>
          <a:xfrm>
            <a:off x="5867280" y="1447920"/>
            <a:ext cx="2743200" cy="1809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autogara"/>
          <p:cNvPicPr/>
          <p:nvPr/>
        </p:nvPicPr>
        <p:blipFill>
          <a:blip r:embed="rId5"/>
          <a:stretch/>
        </p:blipFill>
        <p:spPr>
          <a:xfrm>
            <a:off x="5105520" y="48769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stati"/>
          <p:cNvPicPr/>
          <p:nvPr/>
        </p:nvPicPr>
        <p:blipFill>
          <a:blip r:embed="rId6"/>
          <a:stretch/>
        </p:blipFill>
        <p:spPr>
          <a:xfrm>
            <a:off x="2819520" y="312408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drum"/>
          <p:cNvPicPr/>
          <p:nvPr/>
        </p:nvPicPr>
        <p:blipFill>
          <a:blip r:embed="rId7"/>
          <a:stretch/>
        </p:blipFill>
        <p:spPr>
          <a:xfrm>
            <a:off x="1600200" y="1600200"/>
            <a:ext cx="1295280" cy="1371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ăile de transpor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ef. </a:t>
            </a:r>
            <a:r>
              <a:rPr b="1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rumul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ste o porţiune de teren îngustă şi continuă, amenajată şi consolidată, destinată circulaţiei autovehiculelor de orice tip şi pietonil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210075179_c00a2ecab8_m"/>
          <p:cNvPicPr/>
          <p:nvPr/>
        </p:nvPicPr>
        <p:blipFill>
          <a:blip r:embed="rId2"/>
          <a:stretch/>
        </p:blipFill>
        <p:spPr>
          <a:xfrm>
            <a:off x="304920" y="3886200"/>
            <a:ext cx="175248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286900009_bad4adb2d3_m"/>
          <p:cNvPicPr/>
          <p:nvPr/>
        </p:nvPicPr>
        <p:blipFill>
          <a:blip r:embed="rId3"/>
          <a:stretch/>
        </p:blipFill>
        <p:spPr>
          <a:xfrm>
            <a:off x="6095880" y="3733920"/>
            <a:ext cx="171468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001a"/>
          <p:cNvPicPr/>
          <p:nvPr/>
        </p:nvPicPr>
        <p:blipFill>
          <a:blip r:embed="rId4"/>
          <a:stretch/>
        </p:blipFill>
        <p:spPr>
          <a:xfrm>
            <a:off x="2438280" y="3886200"/>
            <a:ext cx="160020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Imagine:PompeiiStreet.jpg"/>
          <p:cNvPicPr/>
          <p:nvPr/>
        </p:nvPicPr>
        <p:blipFill>
          <a:blip r:embed="rId5"/>
          <a:stretch/>
        </p:blipFill>
        <p:spPr>
          <a:xfrm>
            <a:off x="4267080" y="3886200"/>
            <a:ext cx="1621080" cy="2171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6" name="up2spee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000"/>
                </a:solidFill>
                <a:latin typeface="Arial"/>
              </a:rPr>
              <a:t>Nodurile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ţia este un loc amenaj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pecial unde pasagerii urc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au coboară din mijloacele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utogările sunt spaţii care cuprind terenuri de parcare şi clădiri în care se realizează activităţi de coordonar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ransportulu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statie autobuz"/>
          <p:cNvPicPr/>
          <p:nvPr/>
        </p:nvPicPr>
        <p:blipFill>
          <a:blip r:embed="rId2"/>
          <a:stretch/>
        </p:blipFill>
        <p:spPr>
          <a:xfrm>
            <a:off x="6248520" y="762120"/>
            <a:ext cx="177156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autogara"/>
          <p:cNvPicPr/>
          <p:nvPr/>
        </p:nvPicPr>
        <p:blipFill>
          <a:blip r:embed="rId3"/>
          <a:stretch/>
        </p:blipFill>
        <p:spPr>
          <a:xfrm>
            <a:off x="5867280" y="4800600"/>
            <a:ext cx="2362320" cy="17715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4" name="up2spee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Clasificarea mijloacele de transport rutier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cicle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ocicl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vehic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2057400" cy="1358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6400800" y="3581280"/>
            <a:ext cx="2209680" cy="90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"/>
          <p:cNvPicPr/>
          <p:nvPr/>
        </p:nvPicPr>
        <p:blipFill>
          <a:blip r:embed="rId5"/>
          <a:stretch/>
        </p:blipFill>
        <p:spPr>
          <a:xfrm>
            <a:off x="3809880" y="3200400"/>
            <a:ext cx="15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"/>
          <p:cNvPicPr/>
          <p:nvPr/>
        </p:nvPicPr>
        <p:blipFill>
          <a:blip r:embed="rId6"/>
          <a:stretch/>
        </p:blipFill>
        <p:spPr>
          <a:xfrm>
            <a:off x="6172200" y="4724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"/>
          <p:cNvPicPr/>
          <p:nvPr/>
        </p:nvPicPr>
        <p:blipFill>
          <a:blip r:embed="rId7"/>
          <a:stretch/>
        </p:blipFill>
        <p:spPr>
          <a:xfrm>
            <a:off x="838080" y="4800600"/>
            <a:ext cx="2590920" cy="1473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Automobilul IERI ŞI AZI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1855-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Karl Benz realizeaza primul automobil cu motor cu ardere intern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870-Automobilele cu aburi începusera sǎ fie construite în America încǎ înainte de Rǎzboiul Civ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906 - Rolls Royc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1954-MERCEDES 300 S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2005 -a fost 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el mai frumos automobil din lume-ALFA ROM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1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2288880" cy="1144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"/>
          <p:cNvPicPr/>
          <p:nvPr/>
        </p:nvPicPr>
        <p:blipFill>
          <a:blip r:embed="rId3"/>
          <a:stretch/>
        </p:blipFill>
        <p:spPr>
          <a:xfrm>
            <a:off x="5410080" y="274320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"/>
          <p:cNvPicPr/>
          <p:nvPr/>
        </p:nvPicPr>
        <p:blipFill>
          <a:blip r:embed="rId4"/>
          <a:stretch/>
        </p:blipFill>
        <p:spPr>
          <a:xfrm>
            <a:off x="6858000" y="1600200"/>
            <a:ext cx="2076480" cy="979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"/>
          <p:cNvPicPr/>
          <p:nvPr/>
        </p:nvPicPr>
        <p:blipFill>
          <a:blip r:embed="rId5"/>
          <a:stretch/>
        </p:blipFill>
        <p:spPr>
          <a:xfrm>
            <a:off x="6858000" y="3352680"/>
            <a:ext cx="1981080" cy="1312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7" descr=""/>
          <p:cNvPicPr/>
          <p:nvPr/>
        </p:nvPicPr>
        <p:blipFill>
          <a:blip r:embed="rId6"/>
          <a:stretch/>
        </p:blipFill>
        <p:spPr>
          <a:xfrm>
            <a:off x="3581280" y="380988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"/>
          <p:cNvPicPr/>
          <p:nvPr/>
        </p:nvPicPr>
        <p:blipFill>
          <a:blip r:embed="rId7"/>
          <a:stretch/>
        </p:blipFill>
        <p:spPr>
          <a:xfrm>
            <a:off x="5867280" y="4876920"/>
            <a:ext cx="2438640" cy="1611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ipe dir="r"/>
    <p:sndAc>
      <p:stSnd>
        <p:snd r:embed="rId8" name="up2spee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5000"/>
                </a:solidFill>
                <a:latin typeface="Arial"/>
              </a:rPr>
              <a:t>Evoluția tehnologiilor de transport</a:t>
            </a:r>
            <a:endParaRPr b="0" lang="en-US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2057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cu abur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 fost inventat de către James Watt în 1780, transformă energia aburului în energie mecanic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cu ardere internă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inventat de către Otto Benz și Daimler, funcționează cu benzin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Diesel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inventat de Rudolf Diesel în 1892, combustibilul se aprinde singur atunci când este injectat în aerul comprimat fierbi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Motorul electric-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funcționează cu ajutorul curentului elec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ipe dir="r"/>
    <p:sndAc>
      <p:stSnd>
        <p:snd r:embed="rId2" name="up2spee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o</dc:creator>
  <dc:description/>
  <dc:language>en-US</dc:language>
  <cp:lastModifiedBy>Domo</cp:lastModifiedBy>
  <dcterms:modified xsi:type="dcterms:W3CDTF">2010-05-23T06:17:33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