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up2speed.wav" ContentType="audio/x-wav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5C8-F295-47D3-8698-1B7BA067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F12-6AF3-44BD-8CBF-2DF8321F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395-5F31-4E55-BA27-A5172333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3B9-AB9F-4920-9687-22E08CFC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0A14-440D-4400-AD00-656A9897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F2FA-B949-4A20-A93A-7C6741C8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744E-3D19-4CDD-A6B4-781CC235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2457-B723-4655-8376-53B27E5B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D54D-D997-49CE-BC41-0AF28B77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ED57-CF12-4369-AC4C-EF43FFB1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680C-AB2E-46A0-BF01-FE1F3C4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7EC-8E34-40A2-BAE8-36BAFDFC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14D9-56A4-418C-AD5D-EEF7093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BD59-B6BF-4BCA-B284-C4D50E18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ED99-D240-438E-BEF9-1B6C55FD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F973-DDBE-4A2D-9CAD-8988C113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0FD8-B34F-496D-926C-ABCE0273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F85-001D-44EC-867C-03DB41F4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C02-7504-433C-BB3C-A4DB31EA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845-0FD1-4A09-948C-A639944D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ED3-7395-4845-9B40-E60E2746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AD2-FE30-49A5-88FF-0F756D8E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B06-46B0-422B-9614-D937BB31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A35-DCBE-4920-B4AD-31F455B2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9013-C639-4A4E-BF60-E2FECF3BA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593F-CBA8-42F5-9FEE-8D60E077FB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jpe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audio" Target="../media/up2speed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up2speed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5000"/>
                </a:solidFill>
                <a:latin typeface="Arial"/>
              </a:rPr>
              <a:t>REȚELE ȘI MIJLOACE DE TRANSPORT RUTIERE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 rot="20821200">
            <a:off x="592200" y="2703240"/>
            <a:ext cx="2530440" cy="149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 rot="1464600">
            <a:off x="6055920" y="2651040"/>
            <a:ext cx="2057400" cy="135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50px-Bucharest_Citaro_bus_3"/>
          <p:cNvPicPr/>
          <p:nvPr/>
        </p:nvPicPr>
        <p:blipFill>
          <a:blip r:embed="rId4"/>
          <a:stretch/>
        </p:blipFill>
        <p:spPr>
          <a:xfrm>
            <a:off x="3429000" y="3962520"/>
            <a:ext cx="261000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533520" y="59436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oiect realizat de elevii clasei  a VII-a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Școala cu clasele I- VIII Bo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Grupa :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5" name="up2spee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are sunt factorii de poluare determinați de transportur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incipala sursă de poluare în marile orașe ale globului o reprezintă transporturile rut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estea elimină în atmosferă cantități mari de fum și gaze de eșapament provenite din arderea combustibililor folosiți de autovehi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anotimpul rece , din cauza cantităților mari de pulberi se formează tipul de ceață numită „smo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Măsuri de protecția mediului în cazul transporturilo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lăturarea emisiilor poluante din arderea combustibili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una funcționare și întreținere a autovehicule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Găsirea de noi surse de energie nepoluan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eocuparea constructorilor de mașini pentru găsirea materialelor care se pot recic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um au ajutat transporturile pentru progresul societăți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rile reprezintă o activitate de mare importanță în dezvoltarea economică a țării, asigurând legătura între toate ramurile industriale, între diferite zone ale țării și cu alte țări ale lum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DEFINIR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Transportul rutier asigură deplasarea mărfurilor şi a persoanelor cu ajutorul autovehiculelor şi a mijloacelor tractate pe distanţe relativ scu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 rot="1243200">
            <a:off x="6324120" y="1371240"/>
            <a:ext cx="2246400" cy="168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 rot="1948200">
            <a:off x="4723920" y="3809520"/>
            <a:ext cx="2381400" cy="179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5" name="up2spee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5000"/>
                </a:solidFill>
                <a:latin typeface="Arial"/>
              </a:rPr>
              <a:t>Care este structura rețelei de transport rutier?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Că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Nod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Termin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rum"/>
          <p:cNvPicPr/>
          <p:nvPr/>
        </p:nvPicPr>
        <p:blipFill>
          <a:blip r:embed="rId2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osele1"/>
          <p:cNvPicPr/>
          <p:nvPr/>
        </p:nvPicPr>
        <p:blipFill>
          <a:blip r:embed="rId3"/>
          <a:stretch/>
        </p:blipFill>
        <p:spPr>
          <a:xfrm>
            <a:off x="3581280" y="1752480"/>
            <a:ext cx="2067120" cy="118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utostrada"/>
          <p:cNvPicPr/>
          <p:nvPr/>
        </p:nvPicPr>
        <p:blipFill>
          <a:blip r:embed="rId4"/>
          <a:stretch/>
        </p:blipFill>
        <p:spPr>
          <a:xfrm>
            <a:off x="5867280" y="1447920"/>
            <a:ext cx="274320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autogara"/>
          <p:cNvPicPr/>
          <p:nvPr/>
        </p:nvPicPr>
        <p:blipFill>
          <a:blip r:embed="rId5"/>
          <a:stretch/>
        </p:blipFill>
        <p:spPr>
          <a:xfrm>
            <a:off x="5105520" y="48769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stati"/>
          <p:cNvPicPr/>
          <p:nvPr/>
        </p:nvPicPr>
        <p:blipFill>
          <a:blip r:embed="rId6"/>
          <a:stretch/>
        </p:blipFill>
        <p:spPr>
          <a:xfrm>
            <a:off x="2819520" y="31240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rum"/>
          <p:cNvPicPr/>
          <p:nvPr/>
        </p:nvPicPr>
        <p:blipFill>
          <a:blip r:embed="rId7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ăile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ef. </a:t>
            </a:r>
            <a:r>
              <a:rPr b="1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rumul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o porţiune de teren îngustă şi continuă, amenajată şi consolidată, destinată circulaţiei autovehiculelor de orice tip şi pietoni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210075179_c00a2ecab8_m"/>
          <p:cNvPicPr/>
          <p:nvPr/>
        </p:nvPicPr>
        <p:blipFill>
          <a:blip r:embed="rId2"/>
          <a:stretch/>
        </p:blipFill>
        <p:spPr>
          <a:xfrm>
            <a:off x="304920" y="3886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86900009_bad4adb2d3_m"/>
          <p:cNvPicPr/>
          <p:nvPr/>
        </p:nvPicPr>
        <p:blipFill>
          <a:blip r:embed="rId3"/>
          <a:stretch/>
        </p:blipFill>
        <p:spPr>
          <a:xfrm>
            <a:off x="6095880" y="3733920"/>
            <a:ext cx="17146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001a"/>
          <p:cNvPicPr/>
          <p:nvPr/>
        </p:nvPicPr>
        <p:blipFill>
          <a:blip r:embed="rId4"/>
          <a:stretch/>
        </p:blipFill>
        <p:spPr>
          <a:xfrm>
            <a:off x="2438280" y="38862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magine:PompeiiStreet.jpg"/>
          <p:cNvPicPr/>
          <p:nvPr/>
        </p:nvPicPr>
        <p:blipFill>
          <a:blip r:embed="rId5"/>
          <a:stretch/>
        </p:blipFill>
        <p:spPr>
          <a:xfrm>
            <a:off x="4267080" y="3886200"/>
            <a:ext cx="1621080" cy="2171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6" name="up2spee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000"/>
                </a:solidFill>
                <a:latin typeface="Arial"/>
              </a:rPr>
              <a:t>Noduril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ia este un loc amenaj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pecial unde pasagerii urc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au coboară din mijloacel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utogările sunt spaţii care cuprind terenuri de parcare şi clădiri în care se realizează activităţi de coordonar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lu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statie autobuz"/>
          <p:cNvPicPr/>
          <p:nvPr/>
        </p:nvPicPr>
        <p:blipFill>
          <a:blip r:embed="rId2"/>
          <a:stretch/>
        </p:blipFill>
        <p:spPr>
          <a:xfrm>
            <a:off x="6248520" y="762120"/>
            <a:ext cx="177156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utogara"/>
          <p:cNvPicPr/>
          <p:nvPr/>
        </p:nvPicPr>
        <p:blipFill>
          <a:blip r:embed="rId3"/>
          <a:stretch/>
        </p:blipFill>
        <p:spPr>
          <a:xfrm>
            <a:off x="5867280" y="48006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4" name="up2spee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lasificarea mijloacele de transport rutie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cicle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cic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ehic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057400" cy="1358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6400800" y="3581280"/>
            <a:ext cx="220968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5"/>
          <a:stretch/>
        </p:blipFill>
        <p:spPr>
          <a:xfrm>
            <a:off x="3809880" y="320040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7"/>
          <a:stretch/>
        </p:blipFill>
        <p:spPr>
          <a:xfrm>
            <a:off x="838080" y="4800600"/>
            <a:ext cx="2590920" cy="1473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Automobilul IERI ŞI AZI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855-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Karl Benz realizeaza primul automobil cu motor cu ardere inter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870-Automobilele cu aburi începusera sǎ fie construite în America încǎ înainte de Rǎzboiul Ci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06 - Rolls Royc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54-MERCEDES 300 S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005 -a fost 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l mai frumos automobil din lume-ALFA 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2288880" cy="114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207648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"/>
          <p:cNvPicPr/>
          <p:nvPr/>
        </p:nvPicPr>
        <p:blipFill>
          <a:blip r:embed="rId5"/>
          <a:stretch/>
        </p:blipFill>
        <p:spPr>
          <a:xfrm>
            <a:off x="6858000" y="3352680"/>
            <a:ext cx="1981080" cy="1312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"/>
          <p:cNvPicPr/>
          <p:nvPr/>
        </p:nvPicPr>
        <p:blipFill>
          <a:blip r:embed="rId6"/>
          <a:stretch/>
        </p:blipFill>
        <p:spPr>
          <a:xfrm>
            <a:off x="3581280" y="3809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"/>
          <p:cNvPicPr/>
          <p:nvPr/>
        </p:nvPicPr>
        <p:blipFill>
          <a:blip r:embed="rId7"/>
          <a:stretch/>
        </p:blipFill>
        <p:spPr>
          <a:xfrm>
            <a:off x="5867280" y="4876920"/>
            <a:ext cx="2438640" cy="1611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Evoluția tehnologiilor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2057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bur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 fost inventat de către James Watt în 1780, transformă energia aburului în energie mecanic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rdere internă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către Otto Benz și Daimler, funcționează cu benzin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Diesel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Rudolf Diesel în 1892, combustibilul se aprinde singur atunci când este injectat în aerul comprimat fierbi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electric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ționează cu ajutorul curentului 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23T06:17:3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